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26.png" ContentType="image/png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2.jpeg" ContentType="image/jpeg"/>
  <Override PartName="/ppt/media/image31.jpeg" ContentType="image/jpeg"/>
  <Override PartName="/ppt/media/image3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16070263" cy="116998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7CECE-D2BA-418E-9B9F-2041B6432C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73012-BFBF-4F4F-86A0-17037C87B6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4040" cy="4008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A8B93-599B-4270-AA03-AF72C33706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943A9-B4E3-4FB6-AEB6-594A407F4A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508C1-F926-4AE4-8651-FEE6081582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F153D-F5B0-4216-B772-67CE78F1B3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042FF-0172-4169-9CCC-CC72AC1033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B1A78-03DD-451F-B88C-C7A63C203E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E05E5-99BD-4490-8755-D4070E9A9A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3EFAB-ADC5-49BB-B34D-4B199E22FE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A9A26-8EB2-419C-B3D3-732D773495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EBDAB-0129-4CFB-9037-FF6C9033D2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CE74D-B5F4-4E61-B7F0-E189AE9BB3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4040" cy="4008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567CB-145A-433C-B5DB-9F1320B28D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9FC24-0585-4934-9890-417B2F59D5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AAA42-9FA5-4E7B-A2EF-4CC67C9A93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240B6-AECB-4DA1-A7DE-186AC4CA03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3A29B-588A-43FB-B0F5-41DCDFC38F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B511-5F5C-466F-BE03-F98BBCC503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AED0C-592F-4723-A987-0E4A37F7CD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3D6D9-3CC2-4071-B78C-AA900D6136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028880" y="812880"/>
            <a:ext cx="5503680" cy="4008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3763D-7342-40F2-BBA8-168D922CA4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94D61-E132-4297-9CE8-4F31B1C1BB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20A73-DBD8-482B-929F-C4F079BAF5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B12BB-F55E-4D0F-AB78-A3515C42D2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9C747-38E1-484A-A728-C6378F6907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5857E-F733-4AE8-A0FC-93FABAC03F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13F0E-E2C7-4BC8-8124-A374EB4C41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027080" y="812880"/>
            <a:ext cx="5506920" cy="4008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9304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58328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0280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69304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58328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BF2-3890-4C07-99C2-4DE919D2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186-C902-4978-9D15-DA91E29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F6C-AEB9-4ABC-9636-9C8F6912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4A3-BE2C-4429-AFB7-1754A81C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26A-2873-4C45-8DAD-3BE3CD4F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02800" y="468000"/>
            <a:ext cx="144637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6D5-E584-45D6-A94A-FBA9C582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838-A290-4C9A-8699-4C0B2078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814-CE69-4339-8548-234B75C6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816-2FEE-40E7-B709-D7DF75FE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464-56DC-4C9A-AA83-EDC9C7C1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730-6629-44DB-9873-49234B31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9304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58328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0280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69304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058328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B5D-7423-411B-8A1B-54268F6D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02800" y="468000"/>
            <a:ext cx="144637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9304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58328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0280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569304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1058328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02800" y="468000"/>
            <a:ext cx="144637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9304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58328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0280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569304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058328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02800" y="468000"/>
            <a:ext cx="144637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02800" y="468000"/>
            <a:ext cx="144637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9304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58328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0280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569304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1058328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02800" y="468000"/>
            <a:ext cx="144637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69304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58328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0280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569304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058328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2030-84E4-458B-9AFA-E0D73BB7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C5C5-F004-4304-8C92-49CA69BD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6BEF-E306-4035-993D-FF930490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29AC-7FFA-4222-8ED6-63DB5473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A0E4-4FCB-427B-85B3-96E9246A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802800" y="468000"/>
            <a:ext cx="144637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E916-0A4F-4B9E-B95E-52BD3AE0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46FD-E97B-4891-BB37-61EC496A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5941-2C7C-4AEC-BD3B-D7D99E9B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326F-A631-4A29-B6DA-F18F9CC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197E-AF5C-4EDE-BD7A-4BCD1E6C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1A37-DEDB-4C7C-BBF7-B1BDC547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9304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58328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80280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569304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1058328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922F-A841-46F6-8295-28F63E52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02800" y="468000"/>
            <a:ext cx="144637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02800" y="6763680"/>
            <a:ext cx="14463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214120" y="273024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0280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8214120" y="6763680"/>
            <a:ext cx="70581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280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69304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583280" y="273024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0280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569304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10583280" y="6763680"/>
            <a:ext cx="46569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4920" y="3633840"/>
            <a:ext cx="1365264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5489640" y="10842480"/>
            <a:ext cx="50878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4280" indent="-584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1266840" indent="-48744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2" marL="1949400" indent="-388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3" marL="2728800" indent="-38880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4" marL="3508200" indent="-38880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5" marL="3508200" indent="-38880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6" marL="3508200" indent="-38880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803160" y="10844280"/>
            <a:ext cx="374976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  <a:defRPr b="0" lang="ru-RU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5490720" y="10844280"/>
            <a:ext cx="50878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11517120" y="10844280"/>
            <a:ext cx="3749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  <a:defRPr b="0" lang="ru-RU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fld id="{731FCD3A-05D0-4A70-9290-4194E8584A9C}" type="slidenum">
              <a:rPr b="0" lang="ru-RU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5489640" y="10842480"/>
            <a:ext cx="50878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11250720"/>
            <a:ext cx="16049520" cy="430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  <a:effectLst>
            <a:outerShdw dist="126770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12916080" y="0"/>
            <a:ext cx="3133440" cy="7365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0" y="11250720"/>
            <a:ext cx="160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"/>
                <a:ea typeface="Times New Roman"/>
              </a:rPr>
              <a:t>КГКСУ «Центр оценки качества образования»                                                  </a:t>
            </a:r>
            <a:r>
              <a:rPr b="1" lang="en-US" sz="2400" spc="-1" strike="noStrike">
                <a:solidFill>
                  <a:srgbClr val="1f4e79"/>
                </a:solidFill>
                <a:latin typeface="Arial"/>
              </a:rPr>
              <a:t>coko24.ru</a:t>
            </a:r>
            <a:r>
              <a:rPr b="1" lang="ru-RU" sz="2400" spc="-1" strike="noStrike">
                <a:solidFill>
                  <a:srgbClr val="1f4e79"/>
                </a:solidFill>
                <a:latin typeface="Arial"/>
              </a:rPr>
              <a:t>,2-46-00-29, 2-04-04-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04920" y="3633840"/>
            <a:ext cx="1365264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5489640" y="10842480"/>
            <a:ext cx="50878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0" y="11250720"/>
            <a:ext cx="16049520" cy="430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  <a:effectLst>
            <a:outerShdw dist="126770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4" descr=""/>
          <p:cNvPicPr/>
          <p:nvPr/>
        </p:nvPicPr>
        <p:blipFill>
          <a:blip r:embed="rId2"/>
          <a:stretch/>
        </p:blipFill>
        <p:spPr>
          <a:xfrm>
            <a:off x="12916080" y="0"/>
            <a:ext cx="3133440" cy="7365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0" y="11210760"/>
            <a:ext cx="160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"/>
                <a:ea typeface="Times New Roman"/>
              </a:rPr>
              <a:t>КГКСУ «Центр оценки качества образования»                                                  </a:t>
            </a:r>
            <a:r>
              <a:rPr b="1" lang="en-US" sz="2400" spc="-1" strike="noStrike">
                <a:solidFill>
                  <a:srgbClr val="1f4e79"/>
                </a:solidFill>
                <a:latin typeface="Arial"/>
              </a:rPr>
              <a:t>coko24.ru</a:t>
            </a:r>
            <a:r>
              <a:rPr b="1" lang="ru-RU" sz="2400" spc="-1" strike="noStrike">
                <a:solidFill>
                  <a:srgbClr val="1f4e79"/>
                </a:solidFill>
                <a:latin typeface="Arial"/>
              </a:rPr>
              <a:t>,2-46-00-29, 2-04-04-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04920" y="3633840"/>
            <a:ext cx="1365264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5489640" y="10842480"/>
            <a:ext cx="50878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11250720"/>
            <a:ext cx="16049520" cy="430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  <a:effectLst>
            <a:outerShdw dist="126770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Рисунок 4" descr=""/>
          <p:cNvPicPr/>
          <p:nvPr/>
        </p:nvPicPr>
        <p:blipFill>
          <a:blip r:embed="rId2"/>
          <a:stretch/>
        </p:blipFill>
        <p:spPr>
          <a:xfrm>
            <a:off x="12916080" y="0"/>
            <a:ext cx="3133440" cy="7365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"/>
          <p:cNvSpPr/>
          <p:nvPr/>
        </p:nvSpPr>
        <p:spPr>
          <a:xfrm>
            <a:off x="0" y="11210760"/>
            <a:ext cx="160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"/>
                <a:ea typeface="Times New Roman"/>
              </a:rPr>
              <a:t>КГКСУ «Центр оценки качества образования»                                                  </a:t>
            </a:r>
            <a:r>
              <a:rPr b="1" lang="en-US" sz="2400" spc="-1" strike="noStrike">
                <a:solidFill>
                  <a:srgbClr val="1f4e79"/>
                </a:solidFill>
                <a:latin typeface="Arial"/>
              </a:rPr>
              <a:t>coko24.ru</a:t>
            </a:r>
            <a:r>
              <a:rPr b="1" lang="ru-RU" sz="2400" spc="-1" strike="noStrike">
                <a:solidFill>
                  <a:srgbClr val="1f4e79"/>
                </a:solidFill>
                <a:latin typeface="Arial"/>
              </a:rPr>
              <a:t>,2-46-00-29, 2-04-04-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04920" y="3633840"/>
            <a:ext cx="1365264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5489640" y="10842480"/>
            <a:ext cx="50878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2"/>
          <a:stretch/>
        </p:blipFill>
        <p:spPr>
          <a:xfrm>
            <a:off x="12916080" y="0"/>
            <a:ext cx="3133440" cy="736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0" y="11250720"/>
            <a:ext cx="16049520" cy="430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  <a:effectLst>
            <a:outerShdw dist="126770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0" y="11264760"/>
            <a:ext cx="160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"/>
                <a:ea typeface="Times New Roman"/>
              </a:rPr>
              <a:t>КГКСУ «Центр оценки качества образования»                                                  </a:t>
            </a:r>
            <a:r>
              <a:rPr b="1" lang="en-US" sz="2400" spc="-1" strike="noStrike">
                <a:solidFill>
                  <a:srgbClr val="1f4e79"/>
                </a:solidFill>
                <a:latin typeface="Arial"/>
              </a:rPr>
              <a:t>coko24.ru</a:t>
            </a:r>
            <a:r>
              <a:rPr b="1" lang="ru-RU" sz="2400" spc="-1" strike="noStrike">
                <a:solidFill>
                  <a:srgbClr val="1f4e79"/>
                </a:solidFill>
                <a:latin typeface="Arial"/>
              </a:rPr>
              <a:t>,2-46-00-29, 2-04-04-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4920" y="3633840"/>
            <a:ext cx="1365264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4280" indent="-584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1266840" indent="-48744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2" marL="1949400" indent="-388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3" marL="2728800" indent="-38880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4" marL="3508200" indent="-38880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5" marL="3508200" indent="-38880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6" marL="3508200" indent="-38880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4"/>
          </p:nvPr>
        </p:nvSpPr>
        <p:spPr>
          <a:xfrm>
            <a:off x="803160" y="10844280"/>
            <a:ext cx="374976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5"/>
          </p:nvPr>
        </p:nvSpPr>
        <p:spPr>
          <a:xfrm>
            <a:off x="5490720" y="10844280"/>
            <a:ext cx="50878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6"/>
          </p:nvPr>
        </p:nvSpPr>
        <p:spPr>
          <a:xfrm>
            <a:off x="11517120" y="10844280"/>
            <a:ext cx="3749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F10427-7395-45F0-876C-F58F0632FFE7}" type="slidenum"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6" descr=""/>
          <p:cNvPicPr/>
          <p:nvPr/>
        </p:nvPicPr>
        <p:blipFill>
          <a:blip r:embed="rId2"/>
          <a:stretch/>
        </p:blipFill>
        <p:spPr>
          <a:xfrm>
            <a:off x="12371400" y="0"/>
            <a:ext cx="3699000" cy="8445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7"/>
          <p:cNvSpPr/>
          <p:nvPr/>
        </p:nvSpPr>
        <p:spPr>
          <a:xfrm flipV="1">
            <a:off x="0" y="11254320"/>
            <a:ext cx="16070400" cy="44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6770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8"/>
          <p:cNvSpPr/>
          <p:nvPr/>
        </p:nvSpPr>
        <p:spPr>
          <a:xfrm>
            <a:off x="-58680" y="11215800"/>
            <a:ext cx="16070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1" lang="ru-RU" sz="2300" spc="-1" strike="noStrike">
                <a:solidFill>
                  <a:srgbClr val="254061"/>
                </a:solidFill>
                <a:latin typeface="Calibri"/>
                <a:ea typeface="Times New Roman"/>
              </a:rPr>
              <a:t>КГКСУ «Центр оценки качества образования»                                                                           </a:t>
            </a:r>
            <a:r>
              <a:rPr b="1" lang="en-US" sz="2300" spc="-1" strike="noStrike">
                <a:solidFill>
                  <a:srgbClr val="254061"/>
                </a:solidFill>
                <a:latin typeface="Calibri"/>
              </a:rPr>
              <a:t>coko24.ru</a:t>
            </a:r>
            <a:r>
              <a:rPr b="1" lang="ru-RU" sz="2300" spc="-1" strike="noStrike">
                <a:solidFill>
                  <a:srgbClr val="254061"/>
                </a:solidFill>
                <a:latin typeface="Calibri"/>
              </a:rPr>
              <a:t>,2-46-00-29, 2-04-04-33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37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2800" y="2730240"/>
            <a:ext cx="14463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4280" indent="-584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1266840" indent="-48744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2" marL="1949400" indent="-388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3" marL="2728800" indent="-38880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4" marL="3508200" indent="-38880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5" marL="3508200" indent="-38880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6" marL="3508200" indent="-38880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6.png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18.jpeg"/><Relationship Id="rId12" Type="http://schemas.openxmlformats.org/officeDocument/2006/relationships/image" Target="../media/image23.png"/><Relationship Id="rId13" Type="http://schemas.openxmlformats.org/officeDocument/2006/relationships/image" Target="../media/image22.png"/><Relationship Id="rId14" Type="http://schemas.openxmlformats.org/officeDocument/2006/relationships/image" Target="../media/image24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22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4.png"/><Relationship Id="rId6" Type="http://schemas.openxmlformats.org/officeDocument/2006/relationships/image" Target="../media/image1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35.png"/><Relationship Id="rId16" Type="http://schemas.openxmlformats.org/officeDocument/2006/relationships/image" Target="../media/image35.png"/><Relationship Id="rId17" Type="http://schemas.openxmlformats.org/officeDocument/2006/relationships/image" Target="../media/image35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9.jpeg"/><Relationship Id="rId8" Type="http://schemas.openxmlformats.org/officeDocument/2006/relationships/image" Target="../media/image24.jpe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37.png"/><Relationship Id="rId14" Type="http://schemas.openxmlformats.org/officeDocument/2006/relationships/image" Target="../media/image37.png"/><Relationship Id="rId15" Type="http://schemas.openxmlformats.org/officeDocument/2006/relationships/image" Target="../media/image37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6.png"/><Relationship Id="rId9" Type="http://schemas.openxmlformats.org/officeDocument/2006/relationships/image" Target="../media/image40.jpeg"/><Relationship Id="rId10" Type="http://schemas.openxmlformats.org/officeDocument/2006/relationships/image" Target="../media/image18.jpeg"/><Relationship Id="rId11" Type="http://schemas.openxmlformats.org/officeDocument/2006/relationships/image" Target="../media/image21.jpeg"/><Relationship Id="rId12" Type="http://schemas.openxmlformats.org/officeDocument/2006/relationships/image" Target="../media/image41.png"/><Relationship Id="rId13" Type="http://schemas.openxmlformats.org/officeDocument/2006/relationships/image" Target="../media/image22.png"/><Relationship Id="rId14" Type="http://schemas.openxmlformats.org/officeDocument/2006/relationships/image" Target="../media/image24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9.jpeg"/><Relationship Id="rId8" Type="http://schemas.openxmlformats.org/officeDocument/2006/relationships/image" Target="../media/image24.jpe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834840" y="3544560"/>
            <a:ext cx="691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r>
              <a:rPr b="1" lang="ru-RU" sz="4000" spc="-1" strike="noStrike">
                <a:solidFill>
                  <a:srgbClr val="1f4e79"/>
                </a:solidFill>
                <a:latin typeface="Calibri"/>
              </a:rPr>
              <a:t>Функционал организато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r>
              <a:rPr b="1" lang="ru-RU" sz="4000" spc="-1" strike="noStrike">
                <a:solidFill>
                  <a:srgbClr val="1f4e79"/>
                </a:solidFill>
                <a:latin typeface="Calibri"/>
              </a:rPr>
              <a:t>в ПП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Рисунок 6" descr=""/>
          <p:cNvPicPr/>
          <p:nvPr/>
        </p:nvPicPr>
        <p:blipFill>
          <a:blip r:embed="rId1"/>
          <a:stretch/>
        </p:blipFill>
        <p:spPr>
          <a:xfrm>
            <a:off x="8558280" y="-96840"/>
            <a:ext cx="7510320" cy="118378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7"/>
          <p:cNvSpPr/>
          <p:nvPr/>
        </p:nvSpPr>
        <p:spPr>
          <a:xfrm>
            <a:off x="1843200" y="577800"/>
            <a:ext cx="61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1f4e79"/>
                </a:solidFill>
                <a:latin typeface="Arial"/>
              </a:rPr>
              <a:t>КГКСУ «Центр оценки качества образова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Рисунок 8" descr=""/>
          <p:cNvPicPr/>
          <p:nvPr/>
        </p:nvPicPr>
        <p:blipFill>
          <a:blip r:embed="rId2"/>
          <a:stretch/>
        </p:blipFill>
        <p:spPr>
          <a:xfrm>
            <a:off x="596880" y="561960"/>
            <a:ext cx="1246320" cy="12333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"/>
          <p:cNvSpPr/>
          <p:nvPr/>
        </p:nvSpPr>
        <p:spPr>
          <a:xfrm>
            <a:off x="12152880" y="9810720"/>
            <a:ext cx="287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1f4e79"/>
                </a:solidFill>
                <a:latin typeface="Arial"/>
              </a:rPr>
              <a:t>Красноярск, 20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803160" y="2728800"/>
            <a:ext cx="14462280" cy="77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828720" y="2556000"/>
            <a:ext cx="14409720" cy="7718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12022200" y="7035840"/>
            <a:ext cx="1725480" cy="1947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3"/>
          <a:stretch/>
        </p:blipFill>
        <p:spPr>
          <a:xfrm>
            <a:off x="5656320" y="7035840"/>
            <a:ext cx="1724040" cy="19479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"/>
          <p:cNvPicPr/>
          <p:nvPr/>
        </p:nvPicPr>
        <p:blipFill>
          <a:blip r:embed="rId4"/>
          <a:stretch/>
        </p:blipFill>
        <p:spPr>
          <a:xfrm>
            <a:off x="3673440" y="7035840"/>
            <a:ext cx="1724040" cy="19479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"/>
          <p:cNvPicPr/>
          <p:nvPr/>
        </p:nvPicPr>
        <p:blipFill>
          <a:blip r:embed="rId5"/>
          <a:stretch/>
        </p:blipFill>
        <p:spPr>
          <a:xfrm>
            <a:off x="1690560" y="7000920"/>
            <a:ext cx="1724040" cy="1947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"/>
          <p:cNvPicPr/>
          <p:nvPr/>
        </p:nvPicPr>
        <p:blipFill>
          <a:blip r:embed="rId6"/>
          <a:stretch/>
        </p:blipFill>
        <p:spPr>
          <a:xfrm>
            <a:off x="6562800" y="5165640"/>
            <a:ext cx="1157040" cy="1157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"/>
          <p:cNvPicPr/>
          <p:nvPr/>
        </p:nvPicPr>
        <p:blipFill>
          <a:blip r:embed="rId7"/>
          <a:stretch/>
        </p:blipFill>
        <p:spPr>
          <a:xfrm>
            <a:off x="7381800" y="3446640"/>
            <a:ext cx="2054160" cy="18763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0" descr=""/>
          <p:cNvPicPr/>
          <p:nvPr/>
        </p:nvPicPr>
        <p:blipFill>
          <a:blip r:embed="rId8"/>
          <a:stretch/>
        </p:blipFill>
        <p:spPr>
          <a:xfrm>
            <a:off x="7719840" y="7035840"/>
            <a:ext cx="1724040" cy="1947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1" descr=""/>
          <p:cNvPicPr/>
          <p:nvPr/>
        </p:nvPicPr>
        <p:blipFill>
          <a:blip r:embed="rId9"/>
          <a:stretch/>
        </p:blipFill>
        <p:spPr>
          <a:xfrm>
            <a:off x="1855800" y="4206960"/>
            <a:ext cx="1382760" cy="1382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2" descr=""/>
          <p:cNvPicPr/>
          <p:nvPr/>
        </p:nvPicPr>
        <p:blipFill>
          <a:blip r:embed="rId10"/>
          <a:stretch/>
        </p:blipFill>
        <p:spPr>
          <a:xfrm>
            <a:off x="3652920" y="43848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3" descr=""/>
          <p:cNvPicPr/>
          <p:nvPr/>
        </p:nvPicPr>
        <p:blipFill>
          <a:blip r:embed="rId11"/>
          <a:stretch/>
        </p:blipFill>
        <p:spPr>
          <a:xfrm>
            <a:off x="13284360" y="3922560"/>
            <a:ext cx="927000" cy="9208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90360" y="290160"/>
            <a:ext cx="144619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Аудитория проведения экзамена: раздел «Аудирование»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17" descr=""/>
          <p:cNvPicPr/>
          <p:nvPr/>
        </p:nvPicPr>
        <p:blipFill>
          <a:blip r:embed="rId12"/>
          <a:stretch/>
        </p:blipFill>
        <p:spPr>
          <a:xfrm>
            <a:off x="9813960" y="3446640"/>
            <a:ext cx="1711440" cy="1711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8" descr=""/>
          <p:cNvPicPr/>
          <p:nvPr/>
        </p:nvPicPr>
        <p:blipFill>
          <a:blip r:embed="rId13"/>
          <a:stretch/>
        </p:blipFill>
        <p:spPr>
          <a:xfrm>
            <a:off x="11525400" y="3789360"/>
            <a:ext cx="1188720" cy="1189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9" descr=""/>
          <p:cNvPicPr/>
          <p:nvPr/>
        </p:nvPicPr>
        <p:blipFill>
          <a:blip r:embed="rId14"/>
          <a:stretch/>
        </p:blipFill>
        <p:spPr>
          <a:xfrm>
            <a:off x="7745400" y="5640480"/>
            <a:ext cx="2409840" cy="1236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2" descr=""/>
          <p:cNvPicPr/>
          <p:nvPr/>
        </p:nvPicPr>
        <p:blipFill>
          <a:blip r:embed="rId15"/>
          <a:stretch/>
        </p:blipFill>
        <p:spPr>
          <a:xfrm>
            <a:off x="11569680" y="5165640"/>
            <a:ext cx="166536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-390960" y="83880"/>
            <a:ext cx="1446228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Аудитория подготовки экзамена:</a:t>
            </a:r>
            <a:br>
              <a:rPr sz="4900"/>
            </a:b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иностранные языки раздел «Говорение»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803160" y="2728800"/>
            <a:ext cx="14462280" cy="77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560520" y="2805120"/>
            <a:ext cx="14941440" cy="7740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"/>
          <p:cNvPicPr/>
          <p:nvPr/>
        </p:nvPicPr>
        <p:blipFill>
          <a:blip r:embed="rId2"/>
          <a:stretch/>
        </p:blipFill>
        <p:spPr>
          <a:xfrm>
            <a:off x="13041360" y="34304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"/>
          <p:cNvPicPr/>
          <p:nvPr/>
        </p:nvPicPr>
        <p:blipFill>
          <a:blip r:embed="rId3"/>
          <a:stretch/>
        </p:blipFill>
        <p:spPr>
          <a:xfrm>
            <a:off x="1928880" y="8696160"/>
            <a:ext cx="944640" cy="94464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7"/>
          <p:cNvSpPr/>
          <p:nvPr/>
        </p:nvSpPr>
        <p:spPr>
          <a:xfrm>
            <a:off x="9399600" y="4443480"/>
            <a:ext cx="1117440" cy="1444680"/>
          </a:xfrm>
          <a:custGeom>
            <a:avLst/>
            <a:gdLst>
              <a:gd name="textAreaLeft" fmla="*/ 54360 w 1117440"/>
              <a:gd name="textAreaRight" fmla="*/ 1063080 w 111744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23">
                <a:moveTo>
                  <a:pt x="3600" y="0"/>
                </a:moveTo>
                <a:arcTo wR="3600" hR="3600" stAng="16200000" swAng="-5400000"/>
                <a:lnTo>
                  <a:pt x="0" y="24323"/>
                </a:lnTo>
                <a:arcTo wR="3600" hR="3600" stAng="10800000" swAng="-5400000"/>
                <a:lnTo>
                  <a:pt x="18000" y="279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8"/>
          <p:cNvSpPr/>
          <p:nvPr/>
        </p:nvSpPr>
        <p:spPr>
          <a:xfrm>
            <a:off x="13069800" y="4265640"/>
            <a:ext cx="657360" cy="1932120"/>
          </a:xfrm>
          <a:custGeom>
            <a:avLst/>
            <a:gdLst>
              <a:gd name="textAreaLeft" fmla="*/ 32040 w 657360"/>
              <a:gd name="textAreaRight" fmla="*/ 625320 w 657360"/>
              <a:gd name="textAreaTop" fmla="*/ 32040 h 1932120"/>
              <a:gd name="textAreaBottom" fmla="*/ 1900080 h 1932120"/>
            </a:gdLst>
            <a:ahLst/>
            <a:rect l="textAreaLeft" t="textAreaTop" r="textAreaRight" b="textAreaBottom"/>
            <a:pathLst>
              <a:path w="21600" h="63464">
                <a:moveTo>
                  <a:pt x="3600" y="0"/>
                </a:moveTo>
                <a:arcTo wR="3600" hR="3600" stAng="16200000" swAng="-5400000"/>
                <a:lnTo>
                  <a:pt x="0" y="59864"/>
                </a:lnTo>
                <a:arcTo wR="3600" hR="3600" stAng="10800000" swAng="-5400000"/>
                <a:lnTo>
                  <a:pt x="18000" y="63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13154040" y="4516560"/>
            <a:ext cx="50040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9399600" y="6521400"/>
            <a:ext cx="1117440" cy="1444680"/>
          </a:xfrm>
          <a:custGeom>
            <a:avLst/>
            <a:gdLst>
              <a:gd name="textAreaLeft" fmla="*/ 54360 w 1117440"/>
              <a:gd name="textAreaRight" fmla="*/ 1063080 w 111744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23">
                <a:moveTo>
                  <a:pt x="3600" y="0"/>
                </a:moveTo>
                <a:arcTo wR="3600" hR="3600" stAng="16200000" swAng="-5400000"/>
                <a:lnTo>
                  <a:pt x="0" y="24323"/>
                </a:lnTo>
                <a:arcTo wR="3600" hR="3600" stAng="10800000" swAng="-5400000"/>
                <a:lnTo>
                  <a:pt x="18000" y="279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7473960" y="6558120"/>
            <a:ext cx="1117440" cy="1444320"/>
          </a:xfrm>
          <a:custGeom>
            <a:avLst/>
            <a:gdLst>
              <a:gd name="textAreaLeft" fmla="*/ 54360 w 1117440"/>
              <a:gd name="textAreaRight" fmla="*/ 1063080 w 1117440"/>
              <a:gd name="textAreaTop" fmla="*/ 54360 h 1444320"/>
              <a:gd name="textAreaBottom" fmla="*/ 1389960 h 1444320"/>
            </a:gdLst>
            <a:ahLst/>
            <a:rect l="textAreaLeft" t="textAreaTop" r="textAreaRight" b="textAreaBottom"/>
            <a:pathLst>
              <a:path w="21600" h="27917">
                <a:moveTo>
                  <a:pt x="3600" y="0"/>
                </a:moveTo>
                <a:arcTo wR="3600" hR="3600" stAng="16200000" swAng="-5400000"/>
                <a:lnTo>
                  <a:pt x="0" y="24317"/>
                </a:lnTo>
                <a:arcTo wR="3600" hR="3600" stAng="10800000" swAng="-5400000"/>
                <a:lnTo>
                  <a:pt x="18000" y="27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12"/>
          <p:cNvSpPr/>
          <p:nvPr/>
        </p:nvSpPr>
        <p:spPr>
          <a:xfrm>
            <a:off x="7470720" y="4435560"/>
            <a:ext cx="1122480" cy="1444680"/>
          </a:xfrm>
          <a:custGeom>
            <a:avLst/>
            <a:gdLst>
              <a:gd name="textAreaLeft" fmla="*/ 54720 w 1122480"/>
              <a:gd name="textAreaRight" fmla="*/ 1067760 w 1122480"/>
              <a:gd name="textAreaTop" fmla="*/ 54720 h 1444680"/>
              <a:gd name="textAreaBottom" fmla="*/ 1389960 h 1444680"/>
            </a:gdLst>
            <a:ahLst/>
            <a:rect l="textAreaLeft" t="textAreaTop" r="textAreaRight" b="textAreaBottom"/>
            <a:pathLst>
              <a:path w="21600" h="27798">
                <a:moveTo>
                  <a:pt x="3600" y="0"/>
                </a:moveTo>
                <a:arcTo wR="3600" hR="3600" stAng="16200000" swAng="-5400000"/>
                <a:lnTo>
                  <a:pt x="0" y="24198"/>
                </a:lnTo>
                <a:arcTo wR="3600" hR="3600" stAng="10800000" swAng="-5400000"/>
                <a:lnTo>
                  <a:pt x="18000" y="27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3697200" y="6594480"/>
            <a:ext cx="1117800" cy="1444680"/>
          </a:xfrm>
          <a:custGeom>
            <a:avLst/>
            <a:gdLst>
              <a:gd name="textAreaLeft" fmla="*/ 54360 w 1117800"/>
              <a:gd name="textAreaRight" fmla="*/ 1063440 w 111780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14">
                <a:moveTo>
                  <a:pt x="3600" y="0"/>
                </a:moveTo>
                <a:arcTo wR="3600" hR="3600" stAng="16200000" swAng="-5400000"/>
                <a:lnTo>
                  <a:pt x="0" y="24314"/>
                </a:lnTo>
                <a:arcTo wR="3600" hR="3600" stAng="10800000" swAng="-5400000"/>
                <a:lnTo>
                  <a:pt x="18000" y="27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14"/>
          <p:cNvSpPr/>
          <p:nvPr/>
        </p:nvSpPr>
        <p:spPr>
          <a:xfrm>
            <a:off x="3726000" y="4508640"/>
            <a:ext cx="1117440" cy="1444320"/>
          </a:xfrm>
          <a:custGeom>
            <a:avLst/>
            <a:gdLst>
              <a:gd name="textAreaLeft" fmla="*/ 54360 w 1117440"/>
              <a:gd name="textAreaRight" fmla="*/ 1063080 w 1117440"/>
              <a:gd name="textAreaTop" fmla="*/ 54360 h 1444320"/>
              <a:gd name="textAreaBottom" fmla="*/ 1389960 h 1444320"/>
            </a:gdLst>
            <a:ahLst/>
            <a:rect l="textAreaLeft" t="textAreaTop" r="textAreaRight" b="textAreaBottom"/>
            <a:pathLst>
              <a:path w="21600" h="27917">
                <a:moveTo>
                  <a:pt x="3600" y="0"/>
                </a:moveTo>
                <a:arcTo wR="3600" hR="3600" stAng="16200000" swAng="-5400000"/>
                <a:lnTo>
                  <a:pt x="0" y="24317"/>
                </a:lnTo>
                <a:arcTo wR="3600" hR="3600" stAng="10800000" swAng="-5400000"/>
                <a:lnTo>
                  <a:pt x="18000" y="27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15"/>
          <p:cNvSpPr/>
          <p:nvPr/>
        </p:nvSpPr>
        <p:spPr>
          <a:xfrm>
            <a:off x="5597640" y="6558120"/>
            <a:ext cx="1117440" cy="1444320"/>
          </a:xfrm>
          <a:custGeom>
            <a:avLst/>
            <a:gdLst>
              <a:gd name="textAreaLeft" fmla="*/ 54360 w 1117440"/>
              <a:gd name="textAreaRight" fmla="*/ 1063080 w 1117440"/>
              <a:gd name="textAreaTop" fmla="*/ 54360 h 1444320"/>
              <a:gd name="textAreaBottom" fmla="*/ 1389960 h 1444320"/>
            </a:gdLst>
            <a:ahLst/>
            <a:rect l="textAreaLeft" t="textAreaTop" r="textAreaRight" b="textAreaBottom"/>
            <a:pathLst>
              <a:path w="21600" h="27917">
                <a:moveTo>
                  <a:pt x="3600" y="0"/>
                </a:moveTo>
                <a:arcTo wR="3600" hR="3600" stAng="16200000" swAng="-5400000"/>
                <a:lnTo>
                  <a:pt x="0" y="24317"/>
                </a:lnTo>
                <a:arcTo wR="3600" hR="3600" stAng="10800000" swAng="-5400000"/>
                <a:lnTo>
                  <a:pt x="18000" y="27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16"/>
          <p:cNvSpPr/>
          <p:nvPr/>
        </p:nvSpPr>
        <p:spPr>
          <a:xfrm>
            <a:off x="5597640" y="4459320"/>
            <a:ext cx="1117440" cy="1444680"/>
          </a:xfrm>
          <a:custGeom>
            <a:avLst/>
            <a:gdLst>
              <a:gd name="textAreaLeft" fmla="*/ 54360 w 1117440"/>
              <a:gd name="textAreaRight" fmla="*/ 1063080 w 111744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23">
                <a:moveTo>
                  <a:pt x="3600" y="0"/>
                </a:moveTo>
                <a:arcTo wR="3600" hR="3600" stAng="16200000" swAng="-5400000"/>
                <a:lnTo>
                  <a:pt x="0" y="24323"/>
                </a:lnTo>
                <a:arcTo wR="3600" hR="3600" stAng="10800000" swAng="-5400000"/>
                <a:lnTo>
                  <a:pt x="18000" y="279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17"/>
          <p:cNvSpPr/>
          <p:nvPr/>
        </p:nvSpPr>
        <p:spPr>
          <a:xfrm>
            <a:off x="12870000" y="7580160"/>
            <a:ext cx="1714320" cy="2211480"/>
          </a:xfrm>
          <a:custGeom>
            <a:avLst/>
            <a:gdLst>
              <a:gd name="textAreaLeft" fmla="*/ 83520 w 1714320"/>
              <a:gd name="textAreaRight" fmla="*/ 1630800 w 1714320"/>
              <a:gd name="textAreaTop" fmla="*/ 83520 h 2211480"/>
              <a:gd name="textAreaBottom" fmla="*/ 2127960 h 2211480"/>
            </a:gdLst>
            <a:ahLst/>
            <a:rect l="textAreaLeft" t="textAreaTop" r="textAreaRight" b="textAreaBottom"/>
            <a:pathLst>
              <a:path w="21600" h="27863">
                <a:moveTo>
                  <a:pt x="3600" y="0"/>
                </a:moveTo>
                <a:arcTo wR="3600" hR="3600" stAng="16200000" swAng="-5400000"/>
                <a:lnTo>
                  <a:pt x="0" y="24263"/>
                </a:lnTo>
                <a:arcTo wR="3600" hR="3600" stAng="10800000" swAng="-5400000"/>
                <a:lnTo>
                  <a:pt x="18000" y="278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Литература на языке проведен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20" descr=""/>
          <p:cNvPicPr/>
          <p:nvPr/>
        </p:nvPicPr>
        <p:blipFill>
          <a:blip r:embed="rId4"/>
          <a:stretch/>
        </p:blipFill>
        <p:spPr>
          <a:xfrm>
            <a:off x="10798200" y="3090960"/>
            <a:ext cx="2243160" cy="22431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1" descr=""/>
          <p:cNvPicPr/>
          <p:nvPr/>
        </p:nvPicPr>
        <p:blipFill>
          <a:blip r:embed="rId5"/>
          <a:stretch/>
        </p:blipFill>
        <p:spPr>
          <a:xfrm>
            <a:off x="11538000" y="517356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2" descr=""/>
          <p:cNvPicPr/>
          <p:nvPr/>
        </p:nvPicPr>
        <p:blipFill>
          <a:blip r:embed="rId6"/>
          <a:stretch/>
        </p:blipFill>
        <p:spPr>
          <a:xfrm>
            <a:off x="10747440" y="6951600"/>
            <a:ext cx="192888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02800" y="1325160"/>
            <a:ext cx="1446228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Аудитория проведения экзамена: </a:t>
            </a:r>
            <a:br>
              <a:rPr sz="4900"/>
            </a:b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иностранные языки раздел «Говорение»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1587600" y="3274920"/>
            <a:ext cx="12798360" cy="71992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"/>
          <p:cNvPicPr/>
          <p:nvPr/>
        </p:nvPicPr>
        <p:blipFill>
          <a:blip r:embed="rId2"/>
          <a:stretch/>
        </p:blipFill>
        <p:spPr>
          <a:xfrm>
            <a:off x="2592360" y="5532480"/>
            <a:ext cx="3054240" cy="17002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5078520" y="901080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чее место учас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3"/>
          <a:stretch/>
        </p:blipFill>
        <p:spPr>
          <a:xfrm>
            <a:off x="2936880" y="603576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4"/>
          <a:stretch/>
        </p:blipFill>
        <p:spPr>
          <a:xfrm>
            <a:off x="4089240" y="5653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9" descr=""/>
          <p:cNvPicPr/>
          <p:nvPr/>
        </p:nvPicPr>
        <p:blipFill>
          <a:blip r:embed="rId5"/>
          <a:stretch/>
        </p:blipFill>
        <p:spPr>
          <a:xfrm>
            <a:off x="2695680" y="3998880"/>
            <a:ext cx="2614680" cy="862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"/>
          <p:cNvPicPr/>
          <p:nvPr/>
        </p:nvPicPr>
        <p:blipFill>
          <a:blip r:embed="rId6"/>
          <a:stretch/>
        </p:blipFill>
        <p:spPr>
          <a:xfrm>
            <a:off x="10895040" y="4089240"/>
            <a:ext cx="927000" cy="9208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11"/>
          <p:cNvSpPr/>
          <p:nvPr/>
        </p:nvSpPr>
        <p:spPr>
          <a:xfrm>
            <a:off x="2541600" y="4178160"/>
            <a:ext cx="30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16" descr=""/>
          <p:cNvPicPr/>
          <p:nvPr/>
        </p:nvPicPr>
        <p:blipFill>
          <a:blip r:embed="rId7"/>
          <a:stretch/>
        </p:blipFill>
        <p:spPr>
          <a:xfrm>
            <a:off x="6934320" y="4191120"/>
            <a:ext cx="858600" cy="858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7" descr=""/>
          <p:cNvPicPr/>
          <p:nvPr/>
        </p:nvPicPr>
        <p:blipFill>
          <a:blip r:embed="rId8"/>
          <a:stretch/>
        </p:blipFill>
        <p:spPr>
          <a:xfrm>
            <a:off x="8305920" y="42642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"/>
          <p:cNvPicPr/>
          <p:nvPr/>
        </p:nvPicPr>
        <p:blipFill>
          <a:blip r:embed="rId9"/>
          <a:stretch/>
        </p:blipFill>
        <p:spPr>
          <a:xfrm>
            <a:off x="2612880" y="7664400"/>
            <a:ext cx="3054600" cy="16988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10"/>
          <a:stretch/>
        </p:blipFill>
        <p:spPr>
          <a:xfrm>
            <a:off x="10090080" y="7570800"/>
            <a:ext cx="3054600" cy="1698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"/>
          <p:cNvPicPr/>
          <p:nvPr/>
        </p:nvPicPr>
        <p:blipFill>
          <a:blip r:embed="rId11"/>
          <a:stretch/>
        </p:blipFill>
        <p:spPr>
          <a:xfrm>
            <a:off x="9988560" y="5532480"/>
            <a:ext cx="3054240" cy="1700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12"/>
          <a:stretch/>
        </p:blipFill>
        <p:spPr>
          <a:xfrm>
            <a:off x="3971880" y="77533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"/>
          <p:cNvPicPr/>
          <p:nvPr/>
        </p:nvPicPr>
        <p:blipFill>
          <a:blip r:embed="rId13"/>
          <a:stretch/>
        </p:blipFill>
        <p:spPr>
          <a:xfrm>
            <a:off x="11364840" y="76755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"/>
          <p:cNvPicPr/>
          <p:nvPr/>
        </p:nvPicPr>
        <p:blipFill>
          <a:blip r:embed="rId14"/>
          <a:stretch/>
        </p:blipFill>
        <p:spPr>
          <a:xfrm>
            <a:off x="11315880" y="56530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"/>
          <p:cNvPicPr/>
          <p:nvPr/>
        </p:nvPicPr>
        <p:blipFill>
          <a:blip r:embed="rId15"/>
          <a:stretch/>
        </p:blipFill>
        <p:spPr>
          <a:xfrm>
            <a:off x="3008160" y="8147160"/>
            <a:ext cx="640080" cy="6397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"/>
          <p:cNvPicPr/>
          <p:nvPr/>
        </p:nvPicPr>
        <p:blipFill>
          <a:blip r:embed="rId16"/>
          <a:stretch/>
        </p:blipFill>
        <p:spPr>
          <a:xfrm>
            <a:off x="10490040" y="8018640"/>
            <a:ext cx="640080" cy="6397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"/>
          <p:cNvPicPr/>
          <p:nvPr/>
        </p:nvPicPr>
        <p:blipFill>
          <a:blip r:embed="rId17"/>
          <a:stretch/>
        </p:blipFill>
        <p:spPr>
          <a:xfrm>
            <a:off x="10253520" y="5999040"/>
            <a:ext cx="6400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803160" y="2728800"/>
            <a:ext cx="14462280" cy="77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587520" y="2263680"/>
            <a:ext cx="14892120" cy="80424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"/>
          <p:cNvPicPr/>
          <p:nvPr/>
        </p:nvPicPr>
        <p:blipFill>
          <a:blip r:embed="rId2"/>
          <a:stretch/>
        </p:blipFill>
        <p:spPr>
          <a:xfrm>
            <a:off x="1517760" y="3881520"/>
            <a:ext cx="927000" cy="874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"/>
          <p:cNvPicPr/>
          <p:nvPr/>
        </p:nvPicPr>
        <p:blipFill>
          <a:blip r:embed="rId3"/>
          <a:stretch/>
        </p:blipFill>
        <p:spPr>
          <a:xfrm>
            <a:off x="2803680" y="4902120"/>
            <a:ext cx="1382400" cy="138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"/>
          <p:cNvPicPr/>
          <p:nvPr/>
        </p:nvPicPr>
        <p:blipFill>
          <a:blip r:embed="rId4"/>
          <a:stretch/>
        </p:blipFill>
        <p:spPr>
          <a:xfrm>
            <a:off x="4599000" y="50785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"/>
          <p:cNvPicPr/>
          <p:nvPr/>
        </p:nvPicPr>
        <p:blipFill>
          <a:blip r:embed="rId5"/>
          <a:stretch/>
        </p:blipFill>
        <p:spPr>
          <a:xfrm>
            <a:off x="11538000" y="559260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" descr=""/>
          <p:cNvPicPr/>
          <p:nvPr/>
        </p:nvPicPr>
        <p:blipFill>
          <a:blip r:embed="rId6"/>
          <a:stretch/>
        </p:blipFill>
        <p:spPr>
          <a:xfrm>
            <a:off x="9129600" y="4703760"/>
            <a:ext cx="2247840" cy="2247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" descr=""/>
          <p:cNvPicPr/>
          <p:nvPr/>
        </p:nvPicPr>
        <p:blipFill>
          <a:blip r:embed="rId7"/>
          <a:stretch/>
        </p:blipFill>
        <p:spPr>
          <a:xfrm>
            <a:off x="13592160" y="3881520"/>
            <a:ext cx="927000" cy="874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"/>
          <p:cNvPicPr/>
          <p:nvPr/>
        </p:nvPicPr>
        <p:blipFill>
          <a:blip r:embed="rId8"/>
          <a:stretch/>
        </p:blipFill>
        <p:spPr>
          <a:xfrm>
            <a:off x="9434520" y="6951600"/>
            <a:ext cx="3884760" cy="19940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1" descr=""/>
          <p:cNvPicPr/>
          <p:nvPr/>
        </p:nvPicPr>
        <p:blipFill>
          <a:blip r:embed="rId9"/>
          <a:stretch/>
        </p:blipFill>
        <p:spPr>
          <a:xfrm>
            <a:off x="6568920" y="6454800"/>
            <a:ext cx="2189160" cy="2708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2" descr=""/>
          <p:cNvPicPr/>
          <p:nvPr/>
        </p:nvPicPr>
        <p:blipFill>
          <a:blip r:embed="rId10"/>
          <a:stretch/>
        </p:blipFill>
        <p:spPr>
          <a:xfrm>
            <a:off x="4122720" y="6416640"/>
            <a:ext cx="2189160" cy="27082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3" descr=""/>
          <p:cNvPicPr/>
          <p:nvPr/>
        </p:nvPicPr>
        <p:blipFill>
          <a:blip r:embed="rId11"/>
          <a:stretch/>
        </p:blipFill>
        <p:spPr>
          <a:xfrm>
            <a:off x="1635120" y="6416640"/>
            <a:ext cx="2189160" cy="2708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4" descr=""/>
          <p:cNvPicPr/>
          <p:nvPr/>
        </p:nvPicPr>
        <p:blipFill>
          <a:blip r:embed="rId12"/>
          <a:stretch/>
        </p:blipFill>
        <p:spPr>
          <a:xfrm>
            <a:off x="6624720" y="5110200"/>
            <a:ext cx="725400" cy="7239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17760" y="630000"/>
            <a:ext cx="144619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Аудитория для проведения КЕГЭ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"/>
          <p:cNvSpPr/>
          <p:nvPr/>
        </p:nvSpPr>
        <p:spPr>
          <a:xfrm>
            <a:off x="4028040" y="3760920"/>
            <a:ext cx="6644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ции КЕГЭ и станция организа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Рисунок 2" descr=""/>
          <p:cNvPicPr/>
          <p:nvPr/>
        </p:nvPicPr>
        <p:blipFill>
          <a:blip r:embed="rId13"/>
          <a:stretch/>
        </p:blipFill>
        <p:spPr>
          <a:xfrm>
            <a:off x="2500200" y="6454800"/>
            <a:ext cx="1131840" cy="8017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"/>
          <p:cNvPicPr/>
          <p:nvPr/>
        </p:nvPicPr>
        <p:blipFill>
          <a:blip r:embed="rId14"/>
          <a:stretch/>
        </p:blipFill>
        <p:spPr>
          <a:xfrm>
            <a:off x="5113440" y="6454800"/>
            <a:ext cx="1131840" cy="8017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1" descr=""/>
          <p:cNvPicPr/>
          <p:nvPr/>
        </p:nvPicPr>
        <p:blipFill>
          <a:blip r:embed="rId15"/>
          <a:stretch/>
        </p:blipFill>
        <p:spPr>
          <a:xfrm>
            <a:off x="7442280" y="6454800"/>
            <a:ext cx="1130400" cy="8017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2" descr=""/>
          <p:cNvPicPr/>
          <p:nvPr/>
        </p:nvPicPr>
        <p:blipFill>
          <a:blip r:embed="rId16"/>
          <a:stretch/>
        </p:blipFill>
        <p:spPr>
          <a:xfrm>
            <a:off x="11426760" y="3587760"/>
            <a:ext cx="166536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"/>
          <p:cNvPicPr/>
          <p:nvPr/>
        </p:nvPicPr>
        <p:blipFill>
          <a:blip r:embed="rId1"/>
          <a:stretch/>
        </p:blipFill>
        <p:spPr>
          <a:xfrm>
            <a:off x="539640" y="2654280"/>
            <a:ext cx="15149520" cy="81961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02800" y="1050480"/>
            <a:ext cx="1446228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Организация видеонаблюдения </a:t>
            </a:r>
            <a:br>
              <a:rPr sz="4900"/>
            </a:b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в аудитории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1515680" y="10842480"/>
            <a:ext cx="3749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2"/>
          <a:stretch/>
        </p:blipFill>
        <p:spPr>
          <a:xfrm>
            <a:off x="13031640" y="35766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"/>
          <p:cNvPicPr/>
          <p:nvPr/>
        </p:nvPicPr>
        <p:blipFill>
          <a:blip r:embed="rId3"/>
          <a:stretch/>
        </p:blipFill>
        <p:spPr>
          <a:xfrm>
            <a:off x="1928880" y="8696160"/>
            <a:ext cx="944640" cy="94464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6"/>
          <p:cNvSpPr/>
          <p:nvPr/>
        </p:nvSpPr>
        <p:spPr>
          <a:xfrm>
            <a:off x="9522000" y="3683160"/>
            <a:ext cx="1117440" cy="1444320"/>
          </a:xfrm>
          <a:custGeom>
            <a:avLst/>
            <a:gdLst>
              <a:gd name="textAreaLeft" fmla="*/ 54360 w 1117440"/>
              <a:gd name="textAreaRight" fmla="*/ 1063080 w 1117440"/>
              <a:gd name="textAreaTop" fmla="*/ 54360 h 1444320"/>
              <a:gd name="textAreaBottom" fmla="*/ 1389960 h 1444320"/>
            </a:gdLst>
            <a:ahLst/>
            <a:rect l="textAreaLeft" t="textAreaTop" r="textAreaRight" b="textAreaBottom"/>
            <a:pathLst>
              <a:path w="21600" h="27917">
                <a:moveTo>
                  <a:pt x="3600" y="0"/>
                </a:moveTo>
                <a:arcTo wR="3600" hR="3600" stAng="16200000" swAng="-5400000"/>
                <a:lnTo>
                  <a:pt x="0" y="24317"/>
                </a:lnTo>
                <a:arcTo wR="3600" hR="3600" stAng="10800000" swAng="-5400000"/>
                <a:lnTo>
                  <a:pt x="18000" y="27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7"/>
          <p:cNvSpPr/>
          <p:nvPr/>
        </p:nvSpPr>
        <p:spPr>
          <a:xfrm>
            <a:off x="13087440" y="4940280"/>
            <a:ext cx="657000" cy="1932120"/>
          </a:xfrm>
          <a:custGeom>
            <a:avLst/>
            <a:gdLst>
              <a:gd name="textAreaLeft" fmla="*/ 32040 w 657000"/>
              <a:gd name="textAreaRight" fmla="*/ 624960 w 657000"/>
              <a:gd name="textAreaTop" fmla="*/ 32040 h 1932120"/>
              <a:gd name="textAreaBottom" fmla="*/ 1900080 h 1932120"/>
            </a:gdLst>
            <a:ahLst/>
            <a:rect l="textAreaLeft" t="textAreaTop" r="textAreaRight" b="textAreaBottom"/>
            <a:pathLst>
              <a:path w="21600" h="63499">
                <a:moveTo>
                  <a:pt x="3600" y="0"/>
                </a:moveTo>
                <a:arcTo wR="3600" hR="3600" stAng="16200000" swAng="-5400000"/>
                <a:lnTo>
                  <a:pt x="0" y="59899"/>
                </a:lnTo>
                <a:arcTo wR="3600" hR="3600" stAng="10800000" swAng="-5400000"/>
                <a:lnTo>
                  <a:pt x="18000" y="63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3211280" y="5127480"/>
            <a:ext cx="50040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9"/>
          <p:cNvSpPr/>
          <p:nvPr/>
        </p:nvSpPr>
        <p:spPr>
          <a:xfrm flipH="1">
            <a:off x="4220640" y="4268880"/>
            <a:ext cx="8674200" cy="63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0"/>
          <p:cNvSpPr/>
          <p:nvPr/>
        </p:nvSpPr>
        <p:spPr>
          <a:xfrm flipH="1">
            <a:off x="2982960" y="3643200"/>
            <a:ext cx="230832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 flipV="1">
            <a:off x="11109240" y="4317840"/>
            <a:ext cx="1765440" cy="496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2"/>
          <p:cNvSpPr/>
          <p:nvPr/>
        </p:nvSpPr>
        <p:spPr>
          <a:xfrm flipV="1">
            <a:off x="3048120" y="3571560"/>
            <a:ext cx="8202600" cy="5351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13"/>
          <p:cNvSpPr/>
          <p:nvPr/>
        </p:nvSpPr>
        <p:spPr>
          <a:xfrm flipV="1">
            <a:off x="2987640" y="7658280"/>
            <a:ext cx="10596600" cy="1279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3095360" y="7370640"/>
            <a:ext cx="652680" cy="16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123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15"/>
          <p:cNvSpPr/>
          <p:nvPr/>
        </p:nvSpPr>
        <p:spPr>
          <a:xfrm>
            <a:off x="11777760" y="4840200"/>
            <a:ext cx="734760" cy="7048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 flipH="1">
            <a:off x="5195520" y="4235400"/>
            <a:ext cx="7721640" cy="539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11398320" y="5622840"/>
            <a:ext cx="149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Lucida Console"/>
              </a:rPr>
              <a:t>МЕСТО ОРГАНИЗАТОРА ДЛЯ ЗАЧИТЫВАНИЯ ПРОТОКОЛ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18"/>
          <p:cNvSpPr/>
          <p:nvPr/>
        </p:nvSpPr>
        <p:spPr>
          <a:xfrm>
            <a:off x="9522000" y="5759280"/>
            <a:ext cx="1117440" cy="1444680"/>
          </a:xfrm>
          <a:custGeom>
            <a:avLst/>
            <a:gdLst>
              <a:gd name="textAreaLeft" fmla="*/ 54360 w 1117440"/>
              <a:gd name="textAreaRight" fmla="*/ 1063080 w 111744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23">
                <a:moveTo>
                  <a:pt x="3600" y="0"/>
                </a:moveTo>
                <a:arcTo wR="3600" hR="3600" stAng="16200000" swAng="-5400000"/>
                <a:lnTo>
                  <a:pt x="0" y="24323"/>
                </a:lnTo>
                <a:arcTo wR="3600" hR="3600" stAng="10800000" swAng="-5400000"/>
                <a:lnTo>
                  <a:pt x="18000" y="279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19"/>
          <p:cNvSpPr/>
          <p:nvPr/>
        </p:nvSpPr>
        <p:spPr>
          <a:xfrm>
            <a:off x="9501120" y="7837560"/>
            <a:ext cx="1117800" cy="1444680"/>
          </a:xfrm>
          <a:custGeom>
            <a:avLst/>
            <a:gdLst>
              <a:gd name="textAreaLeft" fmla="*/ 54360 w 1117800"/>
              <a:gd name="textAreaRight" fmla="*/ 1063440 w 111780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14">
                <a:moveTo>
                  <a:pt x="3600" y="0"/>
                </a:moveTo>
                <a:arcTo wR="3600" hR="3600" stAng="16200000" swAng="-5400000"/>
                <a:lnTo>
                  <a:pt x="0" y="24314"/>
                </a:lnTo>
                <a:arcTo wR="3600" hR="3600" stAng="10800000" swAng="-5400000"/>
                <a:lnTo>
                  <a:pt x="18000" y="27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20"/>
          <p:cNvSpPr/>
          <p:nvPr/>
        </p:nvSpPr>
        <p:spPr>
          <a:xfrm>
            <a:off x="7596360" y="5797440"/>
            <a:ext cx="1117440" cy="1444680"/>
          </a:xfrm>
          <a:custGeom>
            <a:avLst/>
            <a:gdLst>
              <a:gd name="textAreaLeft" fmla="*/ 54360 w 1117440"/>
              <a:gd name="textAreaRight" fmla="*/ 1063080 w 111744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23">
                <a:moveTo>
                  <a:pt x="3600" y="0"/>
                </a:moveTo>
                <a:arcTo wR="3600" hR="3600" stAng="16200000" swAng="-5400000"/>
                <a:lnTo>
                  <a:pt x="0" y="24323"/>
                </a:lnTo>
                <a:arcTo wR="3600" hR="3600" stAng="10800000" swAng="-5400000"/>
                <a:lnTo>
                  <a:pt x="18000" y="279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21"/>
          <p:cNvSpPr/>
          <p:nvPr/>
        </p:nvSpPr>
        <p:spPr>
          <a:xfrm>
            <a:off x="7591320" y="3675240"/>
            <a:ext cx="1122480" cy="1444320"/>
          </a:xfrm>
          <a:custGeom>
            <a:avLst/>
            <a:gdLst>
              <a:gd name="textAreaLeft" fmla="*/ 54720 w 1122480"/>
              <a:gd name="textAreaRight" fmla="*/ 1067760 w 1122480"/>
              <a:gd name="textAreaTop" fmla="*/ 54720 h 1444320"/>
              <a:gd name="textAreaBottom" fmla="*/ 1389600 h 1444320"/>
            </a:gdLst>
            <a:ahLst/>
            <a:rect l="textAreaLeft" t="textAreaTop" r="textAreaRight" b="textAreaBottom"/>
            <a:pathLst>
              <a:path w="21600" h="27791">
                <a:moveTo>
                  <a:pt x="3600" y="0"/>
                </a:moveTo>
                <a:arcTo wR="3600" hR="3600" stAng="16200000" swAng="-5400000"/>
                <a:lnTo>
                  <a:pt x="0" y="24191"/>
                </a:lnTo>
                <a:arcTo wR="3600" hR="3600" stAng="10800000" swAng="-5400000"/>
                <a:lnTo>
                  <a:pt x="18000" y="27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22"/>
          <p:cNvSpPr/>
          <p:nvPr/>
        </p:nvSpPr>
        <p:spPr>
          <a:xfrm>
            <a:off x="3848040" y="7812000"/>
            <a:ext cx="1117800" cy="1444680"/>
          </a:xfrm>
          <a:custGeom>
            <a:avLst/>
            <a:gdLst>
              <a:gd name="textAreaLeft" fmla="*/ 54360 w 1117800"/>
              <a:gd name="textAreaRight" fmla="*/ 1063440 w 111780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14">
                <a:moveTo>
                  <a:pt x="3600" y="0"/>
                </a:moveTo>
                <a:arcTo wR="3600" hR="3600" stAng="16200000" swAng="-5400000"/>
                <a:lnTo>
                  <a:pt x="0" y="24314"/>
                </a:lnTo>
                <a:arcTo wR="3600" hR="3600" stAng="10800000" swAng="-5400000"/>
                <a:lnTo>
                  <a:pt x="18000" y="27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3817800" y="5835600"/>
            <a:ext cx="1117800" cy="1444680"/>
          </a:xfrm>
          <a:custGeom>
            <a:avLst/>
            <a:gdLst>
              <a:gd name="textAreaLeft" fmla="*/ 54360 w 1117800"/>
              <a:gd name="textAreaRight" fmla="*/ 1063440 w 111780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14">
                <a:moveTo>
                  <a:pt x="3600" y="0"/>
                </a:moveTo>
                <a:arcTo wR="3600" hR="3600" stAng="16200000" swAng="-5400000"/>
                <a:lnTo>
                  <a:pt x="0" y="24314"/>
                </a:lnTo>
                <a:arcTo wR="3600" hR="3600" stAng="10800000" swAng="-5400000"/>
                <a:lnTo>
                  <a:pt x="18000" y="27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24"/>
          <p:cNvSpPr/>
          <p:nvPr/>
        </p:nvSpPr>
        <p:spPr>
          <a:xfrm>
            <a:off x="3848040" y="3747960"/>
            <a:ext cx="1117800" cy="1444680"/>
          </a:xfrm>
          <a:custGeom>
            <a:avLst/>
            <a:gdLst>
              <a:gd name="textAreaLeft" fmla="*/ 54360 w 1117800"/>
              <a:gd name="textAreaRight" fmla="*/ 1063440 w 111780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14">
                <a:moveTo>
                  <a:pt x="3600" y="0"/>
                </a:moveTo>
                <a:arcTo wR="3600" hR="3600" stAng="16200000" swAng="-5400000"/>
                <a:lnTo>
                  <a:pt x="0" y="24314"/>
                </a:lnTo>
                <a:arcTo wR="3600" hR="3600" stAng="10800000" swAng="-5400000"/>
                <a:lnTo>
                  <a:pt x="18000" y="27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25"/>
          <p:cNvSpPr/>
          <p:nvPr/>
        </p:nvSpPr>
        <p:spPr>
          <a:xfrm>
            <a:off x="5719680" y="7834320"/>
            <a:ext cx="1117800" cy="1444680"/>
          </a:xfrm>
          <a:custGeom>
            <a:avLst/>
            <a:gdLst>
              <a:gd name="textAreaLeft" fmla="*/ 54360 w 1117800"/>
              <a:gd name="textAreaRight" fmla="*/ 1063440 w 111780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14">
                <a:moveTo>
                  <a:pt x="3600" y="0"/>
                </a:moveTo>
                <a:arcTo wR="3600" hR="3600" stAng="16200000" swAng="-5400000"/>
                <a:lnTo>
                  <a:pt x="0" y="24314"/>
                </a:lnTo>
                <a:arcTo wR="3600" hR="3600" stAng="10800000" swAng="-5400000"/>
                <a:lnTo>
                  <a:pt x="18000" y="27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26"/>
          <p:cNvSpPr/>
          <p:nvPr/>
        </p:nvSpPr>
        <p:spPr>
          <a:xfrm>
            <a:off x="5719680" y="5797440"/>
            <a:ext cx="1117800" cy="1444680"/>
          </a:xfrm>
          <a:custGeom>
            <a:avLst/>
            <a:gdLst>
              <a:gd name="textAreaLeft" fmla="*/ 54360 w 1117800"/>
              <a:gd name="textAreaRight" fmla="*/ 1063440 w 111780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14">
                <a:moveTo>
                  <a:pt x="3600" y="0"/>
                </a:moveTo>
                <a:arcTo wR="3600" hR="3600" stAng="16200000" swAng="-5400000"/>
                <a:lnTo>
                  <a:pt x="0" y="24314"/>
                </a:lnTo>
                <a:arcTo wR="3600" hR="3600" stAng="10800000" swAng="-5400000"/>
                <a:lnTo>
                  <a:pt x="18000" y="27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27"/>
          <p:cNvSpPr/>
          <p:nvPr/>
        </p:nvSpPr>
        <p:spPr>
          <a:xfrm>
            <a:off x="5719680" y="3699000"/>
            <a:ext cx="1117800" cy="1444680"/>
          </a:xfrm>
          <a:custGeom>
            <a:avLst/>
            <a:gdLst>
              <a:gd name="textAreaLeft" fmla="*/ 54360 w 1117800"/>
              <a:gd name="textAreaRight" fmla="*/ 1063440 w 1117800"/>
              <a:gd name="textAreaTop" fmla="*/ 54360 h 1444680"/>
              <a:gd name="textAreaBottom" fmla="*/ 1390320 h 1444680"/>
            </a:gdLst>
            <a:ahLst/>
            <a:rect l="textAreaLeft" t="textAreaTop" r="textAreaRight" b="textAreaBottom"/>
            <a:pathLst>
              <a:path w="21600" h="27914">
                <a:moveTo>
                  <a:pt x="3600" y="0"/>
                </a:moveTo>
                <a:arcTo wR="3600" hR="3600" stAng="16200000" swAng="-5400000"/>
                <a:lnTo>
                  <a:pt x="0" y="24314"/>
                </a:lnTo>
                <a:arcTo wR="3600" hR="3600" stAng="10800000" swAng="-5400000"/>
                <a:lnTo>
                  <a:pt x="18000" y="27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28"/>
          <p:cNvSpPr/>
          <p:nvPr/>
        </p:nvSpPr>
        <p:spPr>
          <a:xfrm>
            <a:off x="7591320" y="7835760"/>
            <a:ext cx="1127160" cy="1444680"/>
          </a:xfrm>
          <a:custGeom>
            <a:avLst/>
            <a:gdLst>
              <a:gd name="textAreaLeft" fmla="*/ 54720 w 1127160"/>
              <a:gd name="textAreaRight" fmla="*/ 1072440 w 1127160"/>
              <a:gd name="textAreaTop" fmla="*/ 54720 h 1444680"/>
              <a:gd name="textAreaBottom" fmla="*/ 1389960 h 1444680"/>
            </a:gdLst>
            <a:ahLst/>
            <a:rect l="textAreaLeft" t="textAreaTop" r="textAreaRight" b="textAreaBottom"/>
            <a:pathLst>
              <a:path w="21600" h="27683">
                <a:moveTo>
                  <a:pt x="3600" y="0"/>
                </a:moveTo>
                <a:arcTo wR="3600" hR="3600" stAng="16200000" swAng="-5400000"/>
                <a:lnTo>
                  <a:pt x="0" y="24083"/>
                </a:lnTo>
                <a:arcTo wR="3600" hR="3600" stAng="10800000" swAng="-5400000"/>
                <a:lnTo>
                  <a:pt x="18000" y="27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228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Аудитории для участников ГИА с ОВЗ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803160" y="2728800"/>
            <a:ext cx="14462280" cy="77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828720" y="2638440"/>
            <a:ext cx="14409720" cy="7635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"/>
          <p:cNvPicPr/>
          <p:nvPr/>
        </p:nvPicPr>
        <p:blipFill>
          <a:blip r:embed="rId2"/>
          <a:stretch/>
        </p:blipFill>
        <p:spPr>
          <a:xfrm>
            <a:off x="13092120" y="4933800"/>
            <a:ext cx="1112760" cy="111312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6"/>
          <p:cNvSpPr/>
          <p:nvPr/>
        </p:nvSpPr>
        <p:spPr>
          <a:xfrm>
            <a:off x="2200320" y="4282920"/>
            <a:ext cx="6159600" cy="520560"/>
          </a:xfrm>
          <a:prstGeom prst="rect">
            <a:avLst/>
          </a:prstGeom>
          <a:noFill/>
          <a:ln w="9360">
            <a:solidFill>
              <a:srgbClr val="e200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более 12 человек в аудит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7" descr=""/>
          <p:cNvPicPr/>
          <p:nvPr/>
        </p:nvPicPr>
        <p:blipFill>
          <a:blip r:embed="rId3"/>
          <a:stretch/>
        </p:blipFill>
        <p:spPr>
          <a:xfrm>
            <a:off x="10014120" y="7237440"/>
            <a:ext cx="1209600" cy="12096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8"/>
          <p:cNvSpPr/>
          <p:nvPr/>
        </p:nvSpPr>
        <p:spPr>
          <a:xfrm>
            <a:off x="8718480" y="6345360"/>
            <a:ext cx="1959120" cy="2226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рнов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9" descr=""/>
          <p:cNvPicPr/>
          <p:nvPr/>
        </p:nvPicPr>
        <p:blipFill>
          <a:blip r:embed="rId4"/>
          <a:stretch/>
        </p:blipFill>
        <p:spPr>
          <a:xfrm>
            <a:off x="12022200" y="7035840"/>
            <a:ext cx="1725480" cy="19479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"/>
          <p:cNvPicPr/>
          <p:nvPr/>
        </p:nvPicPr>
        <p:blipFill>
          <a:blip r:embed="rId5"/>
          <a:stretch/>
        </p:blipFill>
        <p:spPr>
          <a:xfrm>
            <a:off x="5656320" y="7035840"/>
            <a:ext cx="1724040" cy="1947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1" descr=""/>
          <p:cNvPicPr/>
          <p:nvPr/>
        </p:nvPicPr>
        <p:blipFill>
          <a:blip r:embed="rId6"/>
          <a:stretch/>
        </p:blipFill>
        <p:spPr>
          <a:xfrm>
            <a:off x="3673440" y="7035840"/>
            <a:ext cx="1724040" cy="1947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2" descr=""/>
          <p:cNvPicPr/>
          <p:nvPr/>
        </p:nvPicPr>
        <p:blipFill>
          <a:blip r:embed="rId7"/>
          <a:stretch/>
        </p:blipFill>
        <p:spPr>
          <a:xfrm>
            <a:off x="1690560" y="7000920"/>
            <a:ext cx="1724040" cy="19479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3" descr=""/>
          <p:cNvPicPr/>
          <p:nvPr/>
        </p:nvPicPr>
        <p:blipFill>
          <a:blip r:embed="rId8"/>
          <a:stretch/>
        </p:blipFill>
        <p:spPr>
          <a:xfrm>
            <a:off x="7110360" y="5489640"/>
            <a:ext cx="893880" cy="892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4" descr=""/>
          <p:cNvPicPr/>
          <p:nvPr/>
        </p:nvPicPr>
        <p:blipFill>
          <a:blip r:embed="rId9"/>
          <a:stretch/>
        </p:blipFill>
        <p:spPr>
          <a:xfrm>
            <a:off x="12279240" y="6829560"/>
            <a:ext cx="690480" cy="814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5" descr=""/>
          <p:cNvPicPr/>
          <p:nvPr/>
        </p:nvPicPr>
        <p:blipFill>
          <a:blip r:embed="rId10"/>
          <a:stretch/>
        </p:blipFill>
        <p:spPr>
          <a:xfrm>
            <a:off x="13284360" y="3821040"/>
            <a:ext cx="927000" cy="920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6" descr=""/>
          <p:cNvPicPr/>
          <p:nvPr/>
        </p:nvPicPr>
        <p:blipFill>
          <a:blip r:embed="rId11"/>
          <a:stretch/>
        </p:blipFill>
        <p:spPr>
          <a:xfrm>
            <a:off x="5535720" y="531504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9" descr=""/>
          <p:cNvPicPr/>
          <p:nvPr/>
        </p:nvPicPr>
        <p:blipFill>
          <a:blip r:embed="rId12"/>
          <a:stretch/>
        </p:blipFill>
        <p:spPr>
          <a:xfrm>
            <a:off x="9198000" y="3340080"/>
            <a:ext cx="1481040" cy="14810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0" descr=""/>
          <p:cNvPicPr/>
          <p:nvPr/>
        </p:nvPicPr>
        <p:blipFill>
          <a:blip r:embed="rId13"/>
          <a:stretch/>
        </p:blipFill>
        <p:spPr>
          <a:xfrm>
            <a:off x="10693440" y="337968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1" descr=""/>
          <p:cNvPicPr/>
          <p:nvPr/>
        </p:nvPicPr>
        <p:blipFill>
          <a:blip r:embed="rId14"/>
          <a:stretch/>
        </p:blipFill>
        <p:spPr>
          <a:xfrm>
            <a:off x="9198000" y="4540320"/>
            <a:ext cx="1928880" cy="1504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"/>
          <p:cNvPicPr/>
          <p:nvPr/>
        </p:nvPicPr>
        <p:blipFill>
          <a:blip r:embed="rId15"/>
          <a:stretch/>
        </p:blipFill>
        <p:spPr>
          <a:xfrm>
            <a:off x="11374560" y="4848120"/>
            <a:ext cx="1295280" cy="12906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23"/>
          <p:cNvSpPr/>
          <p:nvPr/>
        </p:nvSpPr>
        <p:spPr>
          <a:xfrm>
            <a:off x="1920960" y="1324080"/>
            <a:ext cx="133444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ии ППЭ для проведения процедуры ГИА-11 для участников с ОВЗ и детей инвал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1315880" y="10555200"/>
            <a:ext cx="3533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353520"/>
                <a:tab algn="l" pos="10912320"/>
              </a:tabLst>
            </a:pPr>
            <a:fld id="{F9F81720-85A7-4AE3-A13C-7F7576A760FE}" type="slidenum">
              <a:rPr b="0" lang="ru-RU" sz="2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1055520" y="-330480"/>
            <a:ext cx="147240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20840"/>
                <a:tab algn="l" pos="844560"/>
                <a:tab algn="l" pos="1268280"/>
                <a:tab algn="l" pos="1690560"/>
                <a:tab algn="l" pos="2114640"/>
                <a:tab algn="l" pos="2538360"/>
                <a:tab algn="l" pos="2960640"/>
                <a:tab algn="l" pos="3384720"/>
                <a:tab algn="l" pos="3808440"/>
                <a:tab algn="l" pos="4230720"/>
                <a:tab algn="l" pos="4654440"/>
                <a:tab algn="l" pos="5078520"/>
                <a:tab algn="l" pos="5500800"/>
                <a:tab algn="l" pos="5924520"/>
                <a:tab algn="l" pos="6348240"/>
                <a:tab algn="l" pos="6770520"/>
                <a:tab algn="l" pos="7194600"/>
                <a:tab algn="l" pos="7618320"/>
                <a:tab algn="l" pos="8040600"/>
                <a:tab algn="l" pos="8464680"/>
                <a:tab algn="l" pos="8866080"/>
                <a:tab algn="l" pos="9548640"/>
                <a:tab algn="l" pos="10231560"/>
                <a:tab algn="l" pos="10912320"/>
                <a:tab algn="l" pos="11595240"/>
                <a:tab algn="l" pos="122778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Специализированное ПО для проведения ЕГЭ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485640" y="1339920"/>
            <a:ext cx="1472580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ичный кабинет ППЭ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функции взаимодействия со специализированным федеральным порталом 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ча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интернет-паке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ления статусов подготовки и проведения экзамен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изации членов ГЭК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и электронных актов технической готовности и журналов работы станци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ключей доступа к ЭМ и ключей для печати ДБО №2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пакетов с электронными образами бланков и форм ППЭ, пакетов с аудиоответами участников устного экзамен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нция Штаб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станавливается в Штабе ППЭ на компьютере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ющем доступ в сеть «Интернет», обеспечивает функци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и ДБО № 2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пароля доступа к КИМ в случае отсутствия доступа в сеть «Интернет» в день проведения экзамена, а также функции взаимодействия с сервером РЦОИ до их включения в личный кабинет ППЭ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нирование форм, заполняемых в Штабе ППЭ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нирование бланков ЕГЭ участников экзамена в случае невозможности их сканирования в аудитор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нция организатор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станавливается на компьютерах в аудиториях, позволя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овывать и распечатывать ЭМ, полученные в электронном виде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нировать и зашифровывать бланки ЕГЭ участников экзаменов и формы ППЭ, сканируемые в аудитор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нция записи ответов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ведение ЕГЭ по иностранному языку раздел «Говорение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нция КЕГЭ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ведение ЕГЭ по информатик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1315880" y="10555200"/>
            <a:ext cx="3533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353520"/>
                <a:tab algn="l" pos="10912320"/>
              </a:tabLst>
            </a:pPr>
            <a:fld id="{A01D3582-C423-4AF3-AE26-DD9CAF9744D5}" type="slidenum">
              <a:rPr b="0" lang="ru-RU" sz="2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678240" y="0"/>
            <a:ext cx="14463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кция для организатора в аудито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2"/>
          <p:cNvSpPr/>
          <p:nvPr/>
        </p:nvSpPr>
        <p:spPr>
          <a:xfrm>
            <a:off x="401760" y="1033560"/>
            <a:ext cx="6553080" cy="75916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организаторам, предъявляемые Порядк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прош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ответствующую подготовку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, организуемую ОИ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являются специалистами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 учебному предмету при проведении экзамена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ПЭ по данному учебному предмет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являются близкими родственникам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, а также супругами, усыновителя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сыновленными участников экзаменов, сдающих экзамен в данном ППЭ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являются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едагогическими работниками, являющими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ям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участников ГИА, сдающих экзамен в данном ПП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3"/>
          <p:cNvSpPr/>
          <p:nvPr/>
        </p:nvSpPr>
        <p:spPr>
          <a:xfrm>
            <a:off x="7243920" y="1003320"/>
            <a:ext cx="8496000" cy="9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день проведения экзамена в ППЭ организатору в аудитории запрещае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а) иметь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 себе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редства связи, электронно-вычислительную технику, фото-, видеоаппаратуру, справочные материалы, письменные заметки и иные средства хранения и передачи информации, в том числе иметь при себе художественную литературу и т.д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казывать содействие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частникам экзаменов, в том числе передавать им средства связи, электронно-вычислительную технику, фото-, аудио- и видеоаппаратуру, справочные материалы, письменные заметки и иные средства хранения и передачи информации (за исключением средств обучения и воспитания, разрешенных к использованию д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ыполнения заданий КИМ по соответствующим учебным предмета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носить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из аудитории и ППЭ черновики, ЭМ на бумажном и (или) электронном носителях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отографировать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ЭМ, чернов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кидать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ППЭ в день проведения экзамена (до окончания процедур, предусмотренных Порядком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11315880" y="10555200"/>
            <a:ext cx="3533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353520"/>
                <a:tab algn="l" pos="10912320"/>
              </a:tabLst>
            </a:pPr>
            <a:fld id="{D1569E38-0DA8-4E4E-835B-C64A803D9028}" type="slidenum">
              <a:rPr b="0" lang="ru-RU" sz="2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22120" y="34560"/>
            <a:ext cx="1104876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кция для организатора в аудито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Прямоугольник 2"/>
          <p:cNvSpPr/>
          <p:nvPr/>
        </p:nvSpPr>
        <p:spPr>
          <a:xfrm>
            <a:off x="114480" y="735120"/>
            <a:ext cx="15955920" cy="1027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день проведения ЕГЭ организатор в аудитории долже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1) прибыть в ППЭ не поздне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8.00</a:t>
            </a: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 по местному време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2) оставит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ичные вещи </a:t>
            </a: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в месте хранения личных вещей, расположенном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 входа в ППЭ</a:t>
            </a: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регистрироваться </a:t>
            </a: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у организатора, назначенного руководителем ППЭ, ответственным за регистрацию, лиц, привлекаемых к организации и проведению экзамен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4) пройт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структаж</a:t>
            </a: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 у руководителя ППЭ по процедуре проведения экзаменов, который начинается не ране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8.15</a:t>
            </a: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 по местному време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5) получить у руководителя ППЭ информацию о назначени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етственных организаторов </a:t>
            </a: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в аудитории в соответствии со списком распределения организаторов по аудиториям (форма ППЭ-07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Ответственный организатор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пределяет роли </a:t>
            </a: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организаторов на процедуру печати Э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организатор, ответственный за печать Э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организатор, ответственный за проверку комплектности и качества распечатанных Э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организатор, ответственный за сканирование в аудито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олучить у руководителя ППЭ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) формы ППЭ-05-01 (2 экземпляра), ППЭ-05-02, ППЭ-12-02, ППЭ-12-03, ППЭ-12-04-МАШ, ППЭ-16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б) инструкцию для участника экзамена, зачитываемую организатором в ауд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перед началом экзаме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в) табличку с номером аудито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г) калибровочный лист станции организатора соответствующей аудито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д) чернов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е) конверт для упаковки использованных черновиков (один конверт на аудиторию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ж) ВДП для упаковки ЭМ после проведения экзамена (для бланков ЕГЭ, для испорченных или бракованных комплектов ЭМ, для использованных КИ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77400" y="232920"/>
            <a:ext cx="11841480" cy="4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кция для организатора в аудито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Прямоугольник 2"/>
          <p:cNvSpPr/>
          <p:nvPr/>
        </p:nvSpPr>
        <p:spPr>
          <a:xfrm>
            <a:off x="227160" y="836640"/>
            <a:ext cx="8032680" cy="81406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е поздне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08:45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по местному времени пройти в свою аудиторию, проверить ее готовность к экзаме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(в том числе готовность средств видеонаблюдения), проветрить аудиторию (при необходимости) и приступить к выполнению своих обязан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ывесить у входа в аудиторию один экземпляр формы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ПЭ-05-01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Раздать на рабочие места участников экзаме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ерновики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на каждого участника экзамена (минимальное количество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 листа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а одного участника экзамен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дготовить на доске необходиму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нформацию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для заполнения регистрационных полей бланков с использованием полученной у руководителя ППЭ формы ППЭ-1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роверить наличие в аудитории настроенных на точное врем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асов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, находящих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поле зрения участников экзаме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оугольник 4"/>
          <p:cNvSpPr/>
          <p:nvPr/>
        </p:nvSpPr>
        <p:spPr>
          <a:xfrm>
            <a:off x="8899560" y="852480"/>
            <a:ext cx="6735600" cy="938484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Участники экзаменов могут взять в аудиторию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а) гелевые или капиллярные ручки с чернилами черного цвет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б) документ, удостоверяющий лично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в) средства обучения и воспитания, которыми разрешено пользоваться д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выполнения ЭР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г) лекарства (при необходимости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д) продукты питания для дополнительного приема пищи (перекус), бутилированну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питьевую воду при условии, что упаковка указанных продуктов питания и воды, а также их потребление не будут отвлекать других участников экзаменов от выполнения ими ЭР (при необходимости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е) специальные технические средства для участников экзаменов с ОВЗ, участников экзаменов-детей-инвалидов и инвалид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1"/>
          <p:cNvSpPr/>
          <p:nvPr/>
        </p:nvSpPr>
        <p:spPr>
          <a:xfrm>
            <a:off x="235080" y="9531360"/>
            <a:ext cx="8175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рганизаторы в аудитории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кинувшие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ППЭ в день проведения экзамена, повторно в ППЭ в указанный день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допускаются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2120" y="2320920"/>
            <a:ext cx="15025680" cy="91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r>
              <a:rPr b="1" lang="ru-RU" sz="5600" spc="-1" strike="noStrike">
                <a:solidFill>
                  <a:srgbClr val="1f4e79"/>
                </a:solidFill>
                <a:latin typeface="Calibri"/>
              </a:rPr>
              <a:t>Технология 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r>
              <a:rPr b="1" lang="ru-RU" sz="5600" spc="-1" strike="noStrike">
                <a:solidFill>
                  <a:srgbClr val="1f4e79"/>
                </a:solidFill>
                <a:latin typeface="Calibri"/>
              </a:rPr>
              <a:t>передачи ЭМ по сети «Интернет» и сканирование ЭМ в аудитории ППЭ!!!!!!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7620840" y="5710320"/>
            <a:ext cx="826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1E697-6482-411E-B51C-7B47D76434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22120" y="-360"/>
            <a:ext cx="105440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кция для организатора в аудито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Прямоугольник 3"/>
          <p:cNvSpPr/>
          <p:nvPr/>
        </p:nvSpPr>
        <p:spPr>
          <a:xfrm>
            <a:off x="258840" y="2301840"/>
            <a:ext cx="15687720" cy="606636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1f497d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провест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дентификацию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личности по документу, удостоверяющему личность участника экзамена, проверить корректность указанных в протоколе (форма ППЭ-05-02) данных документа, удостоверяющего лич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1f497d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в случа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хождения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персональных данных участника экзамена в документе, удостоверяющем личность, с данными в форме ППЭ-05-02 организатор в аудитории заполняет форму ППЭ-12-02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1f497d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сообщить участнику экзамен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мер его рабочего места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в аудитории (форма ППЭ-05-01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1f497d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проследить, чтобы участник экзамен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нял отведенное ему рабочее место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строго в соответствии со списком распреде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1f497d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следить, чтобы участники экзамен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менялись местами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1f497d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напомнить участникам экзамена о ведении видеонаблюдения в ППЭ и 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прете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иметь при себе уведомление о регистрации на экзамен, средства связи, электронно-вычислительную технику, фото-, аудио- и видеоаппаратуру, справочные материалы, письменные заметки и иные средства хранения и передачи информ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Прямоугольник 4"/>
          <p:cNvSpPr/>
          <p:nvPr/>
        </p:nvSpPr>
        <p:spPr>
          <a:xfrm>
            <a:off x="762120" y="8874000"/>
            <a:ext cx="139698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ыдача Э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Не поздне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9:45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по местному времени ответственный организатор в Штабе ПП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принимает у руководителя ППЭ ДБО № 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1"/>
          <p:cNvSpPr/>
          <p:nvPr/>
        </p:nvSpPr>
        <p:spPr>
          <a:xfrm>
            <a:off x="261360" y="1147680"/>
            <a:ext cx="97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Вход участников экзамена в аудиторию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-106560"/>
            <a:ext cx="116744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кция для организатора в ауди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Прямоугольник 4"/>
          <p:cNvSpPr/>
          <p:nvPr/>
        </p:nvSpPr>
        <p:spPr>
          <a:xfrm>
            <a:off x="3570120" y="932040"/>
            <a:ext cx="8033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нструктаж участников экзам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2"/>
          <p:cNvSpPr/>
          <p:nvPr/>
        </p:nvSpPr>
        <p:spPr>
          <a:xfrm>
            <a:off x="291960" y="2530440"/>
            <a:ext cx="89298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вая часть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инструктажа проводи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09.50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ключает в себя информирование участников экзамен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рядке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проведения экзамена, об основаниях для удаления из ППЭ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о процедур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срочного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завершения экзамена по объективным причина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о правилах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полнения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бланков и ДБО № 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должительности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экзамена по соответствующему учебному предмет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орядке и сроках подач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пелляций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о нарушении Порядка и о несогласии с выставленными балл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о времени и мест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знакомления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с результатами ЕГЭ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писи на КИМ, оборотных сторонах бланков и черновиках не обрабатываются и не проверяются !!!!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Информирование участников экзамена о том, что ЭМ были доставлен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 сети «Интернет»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 зашифрованном виде и о процедуре печати полных комплектов ЭМ в ауди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2"/>
          <p:cNvSpPr/>
          <p:nvPr/>
        </p:nvSpPr>
        <p:spPr>
          <a:xfrm>
            <a:off x="9559800" y="2536920"/>
            <a:ext cx="626436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ранее 10:00 организатор, ответственный за печать Э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водит в соответствующее поле интерфейса станции организатор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оличество ЭМ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для печати, равное количеству участников экзамена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актически присутствующих в данной аудитории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запускает процедуру расшифров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ыполняет печать Э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5"/>
          <p:cNvSpPr/>
          <p:nvPr/>
        </p:nvSpPr>
        <p:spPr>
          <a:xfrm>
            <a:off x="271440" y="8874000"/>
            <a:ext cx="155527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В продолжительность экзаменов по учебным предметам, устанавливаемую едиными расписаниями проведения ЕГЭ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 включается врем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деленное на инструктаж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участников экзаменов!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Прямоугольник 6"/>
          <p:cNvSpPr/>
          <p:nvPr/>
        </p:nvSpPr>
        <p:spPr>
          <a:xfrm>
            <a:off x="9543960" y="6477120"/>
            <a:ext cx="62802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 случае если участник экзамена явился в ППЭ, но был удален или не завершил экзамен по объективной причине до начала печати ЭМ, комплект ЭМ на нег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всё равно распечатывается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для надлежащего оформления удаления или незавершения экзаме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Стрелка вниз 1"/>
          <p:cNvSpPr/>
          <p:nvPr/>
        </p:nvSpPr>
        <p:spPr>
          <a:xfrm>
            <a:off x="10699920" y="1604880"/>
            <a:ext cx="483840" cy="9255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Рисунок 4" descr=""/>
          <p:cNvPicPr/>
          <p:nvPr/>
        </p:nvPicPr>
        <p:blipFill>
          <a:blip r:embed="rId1"/>
          <a:stretch/>
        </p:blipFill>
        <p:spPr>
          <a:xfrm>
            <a:off x="3786120" y="1612800"/>
            <a:ext cx="56052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1315880" y="10555200"/>
            <a:ext cx="3533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353520"/>
                <a:tab algn="l" pos="10912320"/>
              </a:tabLst>
            </a:pPr>
            <a:fld id="{04DBAD1F-CF3F-4D92-9B41-36C944941FA4}" type="slidenum">
              <a:rPr b="0" lang="ru-RU" sz="2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00040" y="23400"/>
            <a:ext cx="108331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кция для организатора в ауди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Прямоугольник 1"/>
          <p:cNvSpPr/>
          <p:nvPr/>
        </p:nvSpPr>
        <p:spPr>
          <a:xfrm>
            <a:off x="258840" y="1577880"/>
            <a:ext cx="1065672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рганизатор, ответственный за проверку ЭМ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веряет качество печати контрольного листа,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который распечатывается последним в комплекте Э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 отсутствие белых и темных поло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текст хорошо читаем и четко пропечата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защитные знаки, расположенные по всей поверхности листа, четко вид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 окончании проверки сообщает результат организатору, ответственному за печать, для подтверждения качества печати в П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Прямоугольник 2"/>
          <p:cNvSpPr/>
          <p:nvPr/>
        </p:nvSpPr>
        <p:spPr>
          <a:xfrm>
            <a:off x="2706840" y="5659560"/>
            <a:ext cx="10656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чественный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комплект размещается на столе для выдачи участникам, некачественный отклад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оугольник 3"/>
          <p:cNvSpPr/>
          <p:nvPr/>
        </p:nvSpPr>
        <p:spPr>
          <a:xfrm>
            <a:off x="4316400" y="6802560"/>
            <a:ext cx="11233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сле завершения печати всех комплектов ЭМ напечатанные полные комплекты раздаются участникам экзамена в аудитории 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 произвольном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ряд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оугольник 5"/>
          <p:cNvSpPr/>
          <p:nvPr/>
        </p:nvSpPr>
        <p:spPr>
          <a:xfrm>
            <a:off x="258840" y="8729640"/>
            <a:ext cx="15290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ажно!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сле восстановления работоспособности принтера в следующем напечатанном комплекте необходимо проконтролировать номера бланков, сравнив с предыдущим комплект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случае обнаружения повторной печат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ублированный комплект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олжен быть забракован (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ткладываются оба экземпляра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6"/>
          <p:cNvSpPr/>
          <p:nvPr/>
        </p:nvSpPr>
        <p:spPr>
          <a:xfrm>
            <a:off x="5514480" y="693720"/>
            <a:ext cx="22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ечать Э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1315880" y="10555200"/>
            <a:ext cx="3533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353520"/>
                <a:tab algn="l" pos="10912320"/>
              </a:tabLst>
            </a:pPr>
            <a:fld id="{CBDBECD0-BD4F-4528-B74F-593356A75CC9}" type="slidenum">
              <a:rPr b="0" lang="ru-RU" sz="2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96680" y="209160"/>
            <a:ext cx="112647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кция для организатора в ауди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Прямоугольник 1"/>
          <p:cNvSpPr/>
          <p:nvPr/>
        </p:nvSpPr>
        <p:spPr>
          <a:xfrm>
            <a:off x="3221280" y="912960"/>
            <a:ext cx="52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торая часть инструктаж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Прямоугольник 2"/>
          <p:cNvSpPr/>
          <p:nvPr/>
        </p:nvSpPr>
        <p:spPr>
          <a:xfrm>
            <a:off x="42840" y="1504800"/>
            <a:ext cx="9864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ать указание участникам экзамена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ровери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мплектнос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(наличие всех бланков и КИМ, а также количество листов в КИМ)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ачество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напечатанного комплекта (отсутствие белых и темных полос, текст хорошо читаем и четко пропечатан, защитные знаки, расположенные по всей поверхности листа, четко видны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роверит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соответствие номеров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бланка регистрации и номера КИМ на контрольном листе с соответствующими номерами на бланке регистрации и КИМ, кода региона и номера ППЭ в бланке регистрации и бланках отве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риступить к 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ению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бланков регистрации (в том числе участник экзамена должен поставить свою подпись в соответствующем поле регистрационных полей бланко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Прямоугольник 3"/>
          <p:cNvSpPr/>
          <p:nvPr/>
        </p:nvSpPr>
        <p:spPr>
          <a:xfrm>
            <a:off x="69840" y="7794720"/>
            <a:ext cx="157989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рганизатор, ответственный за проверку качества ЭМ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зымает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некачественный или некомплектный экземпляр ЭМ и приглашает члена ГЭК для выполнения дополнительной печати ЭМ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1f497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рганизатор, ответственный за печать ЭМ, средствами станции организатор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ракует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омплект, соответствующий номеру бланка регистрации изъятого некачественного или некомплектного экземпляра ЭМ, и переходит к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полнительной печати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ЭМ нового полного комплекта Э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Аналогичная замена производится в случа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рчи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ЭМ участником экзамена ил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поздания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участ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Прямоугольник 5"/>
          <p:cNvSpPr/>
          <p:nvPr/>
        </p:nvSpPr>
        <p:spPr>
          <a:xfrm>
            <a:off x="1465920" y="10172880"/>
            <a:ext cx="12882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Замена комплекта ЭМ производи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лностью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, включая КИМ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Прямоугольник 6"/>
          <p:cNvSpPr/>
          <p:nvPr/>
        </p:nvSpPr>
        <p:spPr>
          <a:xfrm>
            <a:off x="1266840" y="4479840"/>
            <a:ext cx="130334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ровери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авильнос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заполнения регистрационных полей на всех бланках ЕГЭ у каждого участника экзамена и соответствие данных участника экзамена (ФИО, серии и номера документа, удостоверяющего личность) в бланке регистрации и документе, удостоверяющем ли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 случае обнаружения ошибочного заполнения регистрационных полей бланков организаторы дают указание участнику экзамена внести соответствующие исправл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Прямоугольник 7"/>
          <p:cNvSpPr/>
          <p:nvPr/>
        </p:nvSpPr>
        <p:spPr>
          <a:xfrm>
            <a:off x="4867200" y="6391440"/>
            <a:ext cx="1100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осле заполнения всеми участниками экзамена всех бланков объяви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чало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должи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 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ремя окончания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ыполнения ЭР и 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фиксировать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х на дос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Прямоугольник 8"/>
          <p:cNvSpPr/>
          <p:nvPr/>
        </p:nvSpPr>
        <p:spPr>
          <a:xfrm>
            <a:off x="617400" y="7240680"/>
            <a:ext cx="13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случае обнаружения участником экзамена брака или некомплектности Э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1315880" y="10555200"/>
            <a:ext cx="3533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353520"/>
                <a:tab algn="l" pos="10912320"/>
              </a:tabLst>
            </a:pPr>
            <a:fld id="{FE251F62-4F16-427F-941A-3475112B8F53}" type="slidenum">
              <a:rPr b="0" lang="ru-RU" sz="2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735360" y="646200"/>
            <a:ext cx="71280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Начало выполнения Э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Прямоугольник 1"/>
          <p:cNvSpPr/>
          <p:nvPr/>
        </p:nvSpPr>
        <p:spPr>
          <a:xfrm>
            <a:off x="10626840" y="2603520"/>
            <a:ext cx="5184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о время экзамена в каждой аудитории присутствует не мене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вух организато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Прямоугольник 2"/>
          <p:cNvSpPr/>
          <p:nvPr/>
        </p:nvSpPr>
        <p:spPr>
          <a:xfrm>
            <a:off x="10490040" y="5894280"/>
            <a:ext cx="5185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ри необходимости временно покинуть аудиторию следует произвести замену из числ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рганизаторов вне ауд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Прямоугольник 5"/>
          <p:cNvSpPr/>
          <p:nvPr/>
        </p:nvSpPr>
        <p:spPr>
          <a:xfrm>
            <a:off x="185760" y="1508040"/>
            <a:ext cx="10082160" cy="862596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1f497d"/>
                </a:solidFill>
                <a:uFillTx/>
                <a:latin typeface="Arial"/>
              </a:rPr>
              <a:t>Организатор в аудитории должен следить за порядком в аудитории и не допускат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а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зговоров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участников экзаменов между собо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б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мена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любыми материалами и предметами между участниками экзамен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в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личия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средств связи, фото-, аудио- и видеоаппаратуры, электронновычислительной техники, справочных материалов, письменных заметок и иных средств хранения и передачи информации (за исключением средств обучения и воспитания, разрешенных к использованию для выполнения заданий КИМ по соответствующим учебным предметам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г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извольного выхода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участника экзамена из аудитории 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емещения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по ППЭ без сопровождения организатора вне аудитори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д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носа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из аудиторий и ППЭ черновиков, ЭМ на бумажном и (или) электронном носител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е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еписывания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участниками экзамена заданий КИМ в чернови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ж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отографирования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ЭМ, чернов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Прямоугольник 7"/>
          <p:cNvSpPr/>
          <p:nvPr/>
        </p:nvSpPr>
        <p:spPr>
          <a:xfrm>
            <a:off x="574200" y="0"/>
            <a:ext cx="113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струкция для организатора в аудитор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1315880" y="10555200"/>
            <a:ext cx="3533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353520"/>
                <a:tab algn="l" pos="10912320"/>
              </a:tabLst>
            </a:pPr>
            <a:fld id="{CD4C14A9-0DDE-49C0-BDB6-8C865153DDF6}" type="slidenum">
              <a:rPr b="0" lang="ru-RU" sz="2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Прямоугольник 3"/>
          <p:cNvSpPr/>
          <p:nvPr/>
        </p:nvSpPr>
        <p:spPr>
          <a:xfrm>
            <a:off x="237960" y="1366920"/>
            <a:ext cx="4392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участник экзамена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поздал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 на экзамен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участник экзаме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пускается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к сдаче экзаме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ремя окончания экзамена, зафиксированное на доск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не продлевается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нструктаж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проводится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(за исключением, когда в аудитории нет других участников экзаменов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Прямоугольник 4"/>
          <p:cNvSpPr/>
          <p:nvPr/>
        </p:nvSpPr>
        <p:spPr>
          <a:xfrm>
            <a:off x="10771200" y="1379520"/>
            <a:ext cx="51372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в течение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двух часов 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от начала экзамена ни один из участников экзаменов, распределенных в аудиторию ППЭ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не явился 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в ППЭ (отдельные аудитории ППЭ)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рганизатор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общает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об этом члену ГЭ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Член ГЭК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огласованию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с председателем ГЭК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нимае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т решени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 остановке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экзамена в ППЭ или отдельных аудиториях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П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6810480" y="8263080"/>
            <a:ext cx="87897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произошло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худшения состояния здоровья 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участника экзамен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гласи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организатора вне аудитории, которы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проводит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такого участника экзамена к медицинскому работнику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 случае составления членом ГЭК и медицинским работником акта 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срочном завершении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экзамена по объективным причинам: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ставит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ь в соответствующем поле бланка участника экзамена, досрочно завершившего экзамен по объективным причинам, необходимую отметку; в аудитори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ест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 соответствующую запись в форму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ПЭ-05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22480" y="162000"/>
            <a:ext cx="106567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кция для организатора в ауди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"/>
          <p:cNvSpPr/>
          <p:nvPr/>
        </p:nvSpPr>
        <p:spPr>
          <a:xfrm>
            <a:off x="5269680" y="7812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случае, ес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Прямоугольник 8"/>
          <p:cNvSpPr/>
          <p:nvPr/>
        </p:nvSpPr>
        <p:spPr>
          <a:xfrm>
            <a:off x="5286240" y="1658880"/>
            <a:ext cx="47689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участник экзамена предъявил претензию по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одержанию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 задания своего КИМ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фиксирова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суть претензии в служебной запис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еда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ее руководителю ППЭ (служебная записка должна содержать информацию об уникальном номере КИМ, задании и содержании замеча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Прямоугольник 9"/>
          <p:cNvSpPr/>
          <p:nvPr/>
        </p:nvSpPr>
        <p:spPr>
          <a:xfrm>
            <a:off x="237960" y="4664160"/>
            <a:ext cx="621360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участник экзамена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ыходит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 из аудитории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ровери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мплектнос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оставленных им на рабочем столе ЭМ и чернов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фиксирова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выход в форме ППЭ-12-04-МАШ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води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участника во двери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еда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организатору вне ауди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Прямоугольник 10"/>
          <p:cNvSpPr/>
          <p:nvPr/>
        </p:nvSpPr>
        <p:spPr>
          <a:xfrm>
            <a:off x="6810480" y="4405320"/>
            <a:ext cx="87897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не хватает 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места в бланке ответов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бедиться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, что оба листа бланка ответов № 2 (лист 1 и лист 2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ностью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заполнен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рописать номера выданных ДБО № 2 в форм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ПЭ-12-03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крепи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ДБО № 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ыда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участнику экзамена ДБО № 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каза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участнику экзамена на необходимость заполнения всех полей бла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контролировать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равильность заполне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о окончании экзаме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фиксирова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количество выданных ДБО № 2 в форме ППЭ-05-0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ДБО № 2 копировать и выдавать копии категорическ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рещено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ри нехватке ДБО № 2 необходимо обратиться в Штаб ПП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Прямоугольник 11"/>
          <p:cNvSpPr/>
          <p:nvPr/>
        </p:nvSpPr>
        <p:spPr>
          <a:xfrm>
            <a:off x="214200" y="6878520"/>
            <a:ext cx="623736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нарушены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 требования Порядка ГИА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общи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через организатора вне аудитории о нарушении члену ГЭК и (или) руководителю ППЭ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ри установлении фактов нарушения Порядка совместно с членом ГЭК, руководителем ППЭ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ставить акт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б удалении из ППЭ в двух экземплярах в Штабе ППЭ по форме ППЭ-21 в зоне видимости камер видеонаблюдения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в случае удаления участника экзамена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стави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в соответствующем поле бланка участника экзамена, нарушившего Порядок, необходимую отметку; в аудитории ППЭ внести соответствующую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ись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 форму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ПЭ-05-02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776520" y="768240"/>
            <a:ext cx="156258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Завершение выполнения Э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Прямоугольник 1"/>
          <p:cNvSpPr/>
          <p:nvPr/>
        </p:nvSpPr>
        <p:spPr>
          <a:xfrm>
            <a:off x="330120" y="2879640"/>
            <a:ext cx="63374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Участники экзамен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срочно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завершившие выполнение ЭР, могут покинуть ППЭ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дожидаясь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завершения экзам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рганизатору необходим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ня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у них все ЭМ, черновики и получить их подпись в форме ППЭ-05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оугольник 2"/>
          <p:cNvSpPr/>
          <p:nvPr/>
        </p:nvSpPr>
        <p:spPr>
          <a:xfrm>
            <a:off x="977760" y="1298520"/>
            <a:ext cx="12241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0 минут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 з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 минут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до окончания выполнения ЭР сообщить участникам экзамена о скором завершении выполнения ЭР и напомнить о необходимост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енести ответы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з черновиков и КИМ в бланки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Прямоугольник 3"/>
          <p:cNvSpPr/>
          <p:nvPr/>
        </p:nvSpPr>
        <p:spPr>
          <a:xfrm>
            <a:off x="7531200" y="3062160"/>
            <a:ext cx="82087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течении времени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экзамена организатор в аудитории должен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 центре видимости камер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идеонаблюдения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объявить, что выполнение ЭР окончено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опроси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ожи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все ЭМ и черновики на край стол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бра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у участников экзамена все бланки, КИМ, контрольный лист, черновик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 случае если бланки ответов № 2 и ДБО № 2 содержа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заполненные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области, то необходимо погасить их следующим образом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: «Z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верить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бланк ответов № 1 участника экзамена на наличи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мены ошибочных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ответов на задания с кратким отве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 случа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личия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замен ошибочных ответов их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ифровое знач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ение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пис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поставить в специально отведенном мест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сутствия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замен ошибочных ответов, постави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Х»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пи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сь в специально отведенном мест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и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форму ППЭ-05-02, получив подписи у участников экзам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Прямоугольник 5"/>
          <p:cNvSpPr/>
          <p:nvPr/>
        </p:nvSpPr>
        <p:spPr>
          <a:xfrm>
            <a:off x="849240" y="8286840"/>
            <a:ext cx="14293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сле того, как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следний участник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экзамена покинул аудиторию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информировать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руководителя ППЭ (через организатора вне аудитории) о завершении выполнения ЭР в аудитории. Пересчитать все типы бланков ЕГЭ, заполнить форму ППЭ-1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Прямоугольник 6"/>
          <p:cNvSpPr/>
          <p:nvPr/>
        </p:nvSpPr>
        <p:spPr>
          <a:xfrm>
            <a:off x="867960" y="-15840"/>
            <a:ext cx="113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струкция для организатора в аудитор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Прямоугольник 8"/>
          <p:cNvSpPr/>
          <p:nvPr/>
        </p:nvSpPr>
        <p:spPr>
          <a:xfrm>
            <a:off x="6512760" y="20988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бор Э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6" name="Прямая со стрелкой 13"/>
          <p:cNvCxnSpPr>
            <a:stCxn id="615" idx="1"/>
          </p:cNvCxnSpPr>
          <p:nvPr/>
        </p:nvCxnSpPr>
        <p:spPr>
          <a:xfrm flipH="1">
            <a:off x="2561400" y="2360520"/>
            <a:ext cx="3939480" cy="51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17" name="Прямая со стрелкой 16"/>
          <p:cNvCxnSpPr/>
          <p:nvPr/>
        </p:nvCxnSpPr>
        <p:spPr>
          <a:xfrm>
            <a:off x="8178840" y="2360160"/>
            <a:ext cx="3658320" cy="70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50440" y="23400"/>
            <a:ext cx="107600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558800"/>
                <a:tab algn="l" pos="3117960"/>
                <a:tab algn="l" pos="4676760"/>
                <a:tab algn="l" pos="6235560"/>
                <a:tab algn="l" pos="7794720"/>
                <a:tab algn="l" pos="9353520"/>
                <a:tab algn="l" pos="109123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кция для организатора в ауди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Прямоугольник 1"/>
          <p:cNvSpPr/>
          <p:nvPr/>
        </p:nvSpPr>
        <p:spPr>
          <a:xfrm>
            <a:off x="276480" y="1725480"/>
            <a:ext cx="5365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евод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бланков участников в электронный 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Прямоугольник 3"/>
          <p:cNvSpPr/>
          <p:nvPr/>
        </p:nvSpPr>
        <p:spPr>
          <a:xfrm>
            <a:off x="7294680" y="1795320"/>
            <a:ext cx="8032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формление соответствующих форм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, осуществление раскладки и последующей упаковки организаторами ЭМ, собранных у участников экзамена, осуществляется в специально выделенном в аудитории месте (столе)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ходящемся в зоне видимости камер видеонаблю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Прямоугольник 4"/>
          <p:cNvSpPr/>
          <p:nvPr/>
        </p:nvSpPr>
        <p:spPr>
          <a:xfrm>
            <a:off x="409680" y="3224160"/>
            <a:ext cx="102092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се ВДП необходимо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запечата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жно!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ДП с бланками ответов участников экзамена не запаковывается до того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ка не будет произведен экспорт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тсканированных материалов либо до принятия решения о сканировании в Штабе ППЭ в случае возникновения нештатной ситуации, которую невозможно решить средствами станции организат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Прямоугольник 5"/>
          <p:cNvSpPr/>
          <p:nvPr/>
        </p:nvSpPr>
        <p:spPr>
          <a:xfrm>
            <a:off x="6718320" y="5172120"/>
            <a:ext cx="86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Использованные и неиспользован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рновики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необходим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есчит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пользованные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черновики необходим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паковать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в конверт и запечат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Прямоугольник 6"/>
          <p:cNvSpPr/>
          <p:nvPr/>
        </p:nvSpPr>
        <p:spPr>
          <a:xfrm>
            <a:off x="409680" y="6235560"/>
            <a:ext cx="1491768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о завершении сбора и упаковки ЭМ в аудитории ответственный организатор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 центре видимости камеры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идеонаблюдения объявляе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 окончании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экзам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осле проведения сбора ЭМ и подписания протокола о проведении экзамена в аудитории (форма ППЭ-05-02) ответственный организатор на камеру видеонаблюдения громко объявляе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се данные протокола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, в том числе наименование предмета, количество участников экзамена в данной аудитории и количество ЭМ (использованных и неиспользованных), а также время подписания протоко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тветственный организатор также должен продемонстрирова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 камеру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идеонаблюдени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ечатанный ВДП с ЭМ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участников экзам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Прямоугольник 7"/>
          <p:cNvSpPr/>
          <p:nvPr/>
        </p:nvSpPr>
        <p:spPr>
          <a:xfrm>
            <a:off x="409680" y="9202680"/>
            <a:ext cx="15042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о завершении соответствующих процедур организатор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ходят в Штаб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ПЭ с ЭМ и передают ЭМ руководителю ППЭ в присутствии члена ГЭ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ем ЭМ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должен проводиться за специально отведенным столом, находящимс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зоне видимости камер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идеонаблюд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2"/>
          <p:cNvSpPr/>
          <p:nvPr/>
        </p:nvSpPr>
        <p:spPr>
          <a:xfrm>
            <a:off x="4169520" y="852480"/>
            <a:ext cx="49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авершение экзам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"/>
          <p:cNvSpPr/>
          <p:nvPr/>
        </p:nvSpPr>
        <p:spPr>
          <a:xfrm>
            <a:off x="430200" y="2313000"/>
            <a:ext cx="5614920" cy="389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rcRect l="0" t="0" r="0" b="33091"/>
          <a:stretch/>
        </p:blipFill>
        <p:spPr>
          <a:xfrm>
            <a:off x="1663560" y="3751200"/>
            <a:ext cx="2948040" cy="24638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701640" y="2579760"/>
            <a:ext cx="53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ение для сопровождающих участников ГИ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500040" y="7142040"/>
            <a:ext cx="5614920" cy="391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1298520" y="7286760"/>
            <a:ext cx="1335240" cy="2770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3"/>
          <a:stretch/>
        </p:blipFill>
        <p:spPr>
          <a:xfrm>
            <a:off x="3139920" y="726264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7"/>
          <p:cNvSpPr/>
          <p:nvPr/>
        </p:nvSpPr>
        <p:spPr>
          <a:xfrm>
            <a:off x="1030320" y="9901080"/>
            <a:ext cx="52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о выделенное 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ичных вещей участников и работ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142920" y="5219640"/>
            <a:ext cx="941400" cy="299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5681520" y="5219640"/>
            <a:ext cx="943200" cy="365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Х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Д</a:t>
            </a:r>
            <a:br>
              <a:rPr sz="2100"/>
            </a:b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</a:t>
            </a:r>
            <a:br>
              <a:rPr sz="2100"/>
            </a:b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П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П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Э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6742080" y="3467160"/>
            <a:ext cx="3211560" cy="506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нкт охраны правопоря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1" descr=""/>
          <p:cNvPicPr/>
          <p:nvPr/>
        </p:nvPicPr>
        <p:blipFill>
          <a:blip r:embed="rId4"/>
          <a:stretch/>
        </p:blipFill>
        <p:spPr>
          <a:xfrm>
            <a:off x="7586640" y="3662280"/>
            <a:ext cx="1523880" cy="20415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2"/>
          <p:cNvSpPr/>
          <p:nvPr/>
        </p:nvSpPr>
        <p:spPr>
          <a:xfrm>
            <a:off x="10126800" y="6137280"/>
            <a:ext cx="2778120" cy="506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омещение для руководителя ППЭ, оборудованное рабочим местом и сейфо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13" descr=""/>
          <p:cNvPicPr/>
          <p:nvPr/>
        </p:nvPicPr>
        <p:blipFill>
          <a:blip r:embed="rId5"/>
          <a:stretch/>
        </p:blipFill>
        <p:spPr>
          <a:xfrm>
            <a:off x="10323360" y="6593040"/>
            <a:ext cx="2021040" cy="18316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4"/>
          <p:cNvSpPr/>
          <p:nvPr/>
        </p:nvSpPr>
        <p:spPr>
          <a:xfrm>
            <a:off x="10126800" y="2313000"/>
            <a:ext cx="2778120" cy="35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омещение для медицинских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ботников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15" descr=""/>
          <p:cNvPicPr/>
          <p:nvPr/>
        </p:nvPicPr>
        <p:blipFill>
          <a:blip r:embed="rId6"/>
          <a:stretch/>
        </p:blipFill>
        <p:spPr>
          <a:xfrm>
            <a:off x="10683720" y="2579760"/>
            <a:ext cx="1441440" cy="18810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6"/>
          <p:cNvSpPr/>
          <p:nvPr/>
        </p:nvSpPr>
        <p:spPr>
          <a:xfrm>
            <a:off x="13049280" y="2313000"/>
            <a:ext cx="2762280" cy="889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удитории для участников ГИА, в том числе для участнико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 ОВЗ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17" descr=""/>
          <p:cNvPicPr/>
          <p:nvPr/>
        </p:nvPicPr>
        <p:blipFill>
          <a:blip r:embed="rId7"/>
          <a:srcRect l="0" t="0" r="0" b="35566"/>
          <a:stretch/>
        </p:blipFill>
        <p:spPr>
          <a:xfrm>
            <a:off x="13331880" y="3551400"/>
            <a:ext cx="2206440" cy="2319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"/>
          <p:cNvPicPr/>
          <p:nvPr/>
        </p:nvPicPr>
        <p:blipFill>
          <a:blip r:embed="rId8"/>
          <a:srcRect l="0" t="0" r="0" b="30318"/>
          <a:stretch/>
        </p:blipFill>
        <p:spPr>
          <a:xfrm>
            <a:off x="13363560" y="8291520"/>
            <a:ext cx="2255760" cy="2309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1" descr=""/>
          <p:cNvPicPr/>
          <p:nvPr/>
        </p:nvPicPr>
        <p:blipFill>
          <a:blip r:embed="rId9"/>
          <a:srcRect l="0" t="0" r="0" b="45426"/>
          <a:stretch/>
        </p:blipFill>
        <p:spPr>
          <a:xfrm>
            <a:off x="7866000" y="6697800"/>
            <a:ext cx="1274760" cy="15811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63560" y="22320"/>
            <a:ext cx="12271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Подготовка помещений ППЭ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228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отовность ПП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8661240" y="4316400"/>
            <a:ext cx="3481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КОВОДИТЕЛЬ О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12144240" y="4324320"/>
            <a:ext cx="38052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УКОВОДИТЕЛЬ ПП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11045880" y="5856120"/>
            <a:ext cx="5011560" cy="4910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1171440" y="2324160"/>
            <a:ext cx="3541680" cy="35416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2343240" y="2870280"/>
            <a:ext cx="1197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ГОД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1639800" y="4189320"/>
            <a:ext cx="2603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ПЭ ГО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9" descr=""/>
          <p:cNvPicPr/>
          <p:nvPr/>
        </p:nvPicPr>
        <p:blipFill>
          <a:blip r:embed="rId3"/>
          <a:stretch/>
        </p:blipFill>
        <p:spPr>
          <a:xfrm>
            <a:off x="5052960" y="2324160"/>
            <a:ext cx="3541680" cy="35416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0"/>
          <p:cNvSpPr/>
          <p:nvPr/>
        </p:nvSpPr>
        <p:spPr>
          <a:xfrm>
            <a:off x="6411960" y="2870280"/>
            <a:ext cx="1015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В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5979960" y="4189320"/>
            <a:ext cx="1881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ЗАМ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12" descr=""/>
          <p:cNvPicPr/>
          <p:nvPr/>
        </p:nvPicPr>
        <p:blipFill>
          <a:blip r:embed="rId4"/>
          <a:stretch/>
        </p:blipFill>
        <p:spPr>
          <a:xfrm>
            <a:off x="8323200" y="5856120"/>
            <a:ext cx="3638520" cy="4910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"/>
          <p:cNvPicPr/>
          <p:nvPr/>
        </p:nvPicPr>
        <p:blipFill>
          <a:blip r:embed="rId5"/>
          <a:stretch/>
        </p:blipFill>
        <p:spPr>
          <a:xfrm>
            <a:off x="1319040" y="5875200"/>
            <a:ext cx="7129800" cy="50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a"/>
            </a:gs>
            <a:gs pos="100000">
              <a:srgbClr val="e4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420840" y="1392120"/>
            <a:ext cx="1474452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ctr">
              <a:spcAft>
                <a:spcPts val="1100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озднее чем за один день до проведения экзамена руководитель ППЭ и руководитель образовательной организации обязаны обеспечить и проверить налич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352440" y="3438360"/>
            <a:ext cx="15316200" cy="966960"/>
          </a:xfrm>
          <a:prstGeom prst="rect">
            <a:avLst/>
          </a:prstGeom>
          <a:solidFill>
            <a:srgbClr val="006ab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удиторий, необходимых для проведения ЕГЭ, в том числе аудиторий, необходимых для проведения ЕГЭ для участников ЕГЭ с ОВЗ, детей-инвалидов и инвали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74760" y="4734000"/>
            <a:ext cx="15295320" cy="1104840"/>
          </a:xfrm>
          <a:prstGeom prst="rect">
            <a:avLst/>
          </a:prstGeom>
          <a:solidFill>
            <a:srgbClr val="8eb4e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чих мест (столы, стулья) для организаторов вне аудитории, сотрудников, осуществляющих охрану правопорядка, и (или) сотрудников органов внутренних дел (поли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357120" y="6126120"/>
            <a:ext cx="15332040" cy="96696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дельного места для хранения личных вещей участников ЕГЭ до входа в ППЭ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85920" y="7359480"/>
            <a:ext cx="15305040" cy="1119240"/>
          </a:xfrm>
          <a:prstGeom prst="rect">
            <a:avLst/>
          </a:prstGeom>
          <a:solidFill>
            <a:srgbClr val="006ab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дельного места для хранения личных вещей организаторов ППЭ, медицинского работника, ассистентов для участников ЕГЭ с ОВЗ, детей-инвалидов и инвалидов, представителей СМИ, которое расположено до входа в ПП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412920" y="8780400"/>
            <a:ext cx="15297120" cy="111276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о выделенного места в каждой аудитории ППЭ (стола), находящегося в зоне видимости камер видеонаблюдения, для оформления соответствующих форм ППЭ, осуществления раскладки и последующей упаковки организаторами ЭМ, собранных у участников ЕГ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20840" y="10244160"/>
            <a:ext cx="15311160" cy="957240"/>
          </a:xfrm>
          <a:prstGeom prst="rect">
            <a:avLst/>
          </a:prstGeom>
          <a:solidFill>
            <a:srgbClr val="8eb4e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ения для руководителя ППЭ (Штаб ППЭ), соответствующего требованиям, изложенным в разделе «Требования к ППЭ» Методических матери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430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461880" y="47160"/>
            <a:ext cx="144619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дготовка ППЭ к ГИА-1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684360" y="1471680"/>
            <a:ext cx="148795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позднее чем за один день до начала проведения экзаме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также необходимо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352440" y="3522600"/>
            <a:ext cx="15316200" cy="966960"/>
          </a:xfrm>
          <a:prstGeom prst="rect">
            <a:avLst/>
          </a:prstGeom>
          <a:solidFill>
            <a:srgbClr val="006ab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430200" algn="just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брать (закрыть) в аудиториях стенды, плакаты и иные материалы со справочно-познавательной информа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31920" y="5105520"/>
            <a:ext cx="15231960" cy="211932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539640" algn="just">
              <a:spcAft>
                <a:spcPts val="1500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ть  черновики со штампом ОО, на базе которой расположен ППЭ, на каждого участника ЕГЭ (минимальное количество - два листа + 10% запаса), а также дополнительные черновики со штампом ОО, на базе которой расположен ППЭ                  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е проведения ЕГЭ по иностранным языкам с включенным разделом «Говорение» черновики не выдаютс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412920" y="7775640"/>
            <a:ext cx="15305040" cy="1119240"/>
          </a:xfrm>
          <a:prstGeom prst="rect">
            <a:avLst/>
          </a:prstGeom>
          <a:solidFill>
            <a:srgbClr val="006ab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539640" algn="just">
              <a:spcAft>
                <a:spcPts val="1500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ть конверты для упаковки использованных черновиков (по одному конверту на аудиторию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420840" y="9317160"/>
            <a:ext cx="15297120" cy="134136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57200" indent="430200" algn="just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ть в необходимом количестве инструкции для участников ЕГЭ, зачитываемые организаторами в аудитории перед началом экзамена (одна инструкция на одну аудиторию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1960" y="283680"/>
            <a:ext cx="144619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ка ППЭ к ГИА-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0" y="1279440"/>
            <a:ext cx="15668640" cy="84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898560" indent="-452520" algn="just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8560" indent="-452520" algn="ctr">
              <a:spcAft>
                <a:spcPts val="1100"/>
              </a:spcAft>
              <a:tabLst>
                <a:tab algn="l" pos="0"/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язательное налич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98560" indent="-452520" algn="just">
              <a:spcAft>
                <a:spcPts val="1100"/>
              </a:spcAft>
              <a:buClr>
                <a:srgbClr val="006ab3"/>
              </a:buClr>
              <a:buSzPct val="45000"/>
              <a:buFont typeface="Wingdings" charset="2"/>
              <a:buChar char=""/>
              <a:tabLst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ещения для медицинского работни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8560" indent="-452520" algn="just">
              <a:spcAft>
                <a:spcPts val="1100"/>
              </a:spcAft>
              <a:buClr>
                <a:srgbClr val="006ab3"/>
              </a:buClr>
              <a:buSzPct val="45000"/>
              <a:buFont typeface="Wingdings" charset="2"/>
              <a:buChar char=""/>
              <a:tabLst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а учета участников ЕГЭ, обратившихся к медицинскому работни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8560" indent="-452520" algn="just">
              <a:spcAft>
                <a:spcPts val="1100"/>
              </a:spcAft>
              <a:buClr>
                <a:srgbClr val="006ab3"/>
              </a:buClr>
              <a:buSzPct val="45000"/>
              <a:buFont typeface="Wingdings" charset="2"/>
              <a:buChar char=""/>
              <a:tabLst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ещений для лиц, сопровождающих участников ЕГЭ, которые организуются до входа в ППЭ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8560" indent="-452520" algn="just">
              <a:spcAft>
                <a:spcPts val="1100"/>
              </a:spcAft>
              <a:buClr>
                <a:srgbClr val="006ab3"/>
              </a:buClr>
              <a:buSzPct val="45000"/>
              <a:buFont typeface="Wingdings" charset="2"/>
              <a:buChar char=""/>
              <a:tabLst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метных обозначений номеров аудитории для проведения ЕГЭ и наименований помещений, используемых для проведения экзамен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8560" indent="-452520" algn="just">
              <a:spcAft>
                <a:spcPts val="1100"/>
              </a:spcAft>
              <a:buClr>
                <a:srgbClr val="006ab3"/>
              </a:buClr>
              <a:buSzPct val="45000"/>
              <a:buFont typeface="Wingdings" charset="2"/>
              <a:buChar char=""/>
              <a:tabLst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метных информационных плакатов о ведении видеонаблюдения в аудиториях и коридорах ППЭ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8560" indent="-452520" algn="just">
              <a:spcAft>
                <a:spcPts val="1100"/>
              </a:spcAft>
              <a:buClr>
                <a:srgbClr val="006ab3"/>
              </a:buClr>
              <a:buSzPct val="45000"/>
              <a:buFont typeface="Wingdings" charset="2"/>
              <a:buChar char=""/>
              <a:tabLst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более 25 рабочих мест для участников ЕГЭ в аудитор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8560" indent="-452520" algn="just">
              <a:spcAft>
                <a:spcPts val="1100"/>
              </a:spcAft>
              <a:buClr>
                <a:srgbClr val="006ab3"/>
              </a:buClr>
              <a:buSzPct val="45000"/>
              <a:buFont typeface="Wingdings" charset="2"/>
              <a:buChar char=""/>
              <a:tabLst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означения каждого рабочего места участника ЕГЭ в аудитории заметным номер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8560" indent="-452520" algn="just">
              <a:spcAft>
                <a:spcPts val="1100"/>
              </a:spcAft>
              <a:buClr>
                <a:srgbClr val="006ab3"/>
              </a:buClr>
              <a:buSzPct val="45000"/>
              <a:buFont typeface="Wingdings" charset="2"/>
              <a:buChar char=""/>
              <a:tabLst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асов, находящихся в поле зрения участников ЕГЭ, в каждой аудитории с проведением проверки их работоспособ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8560" indent="-452520" algn="just">
              <a:tabLst>
                <a:tab algn="l" pos="0"/>
                <a:tab algn="l" pos="8985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533880" y="161640"/>
            <a:ext cx="1446228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ка ППЭ к ГИА-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02800" y="468000"/>
            <a:ext cx="1446228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Нумерация рабочих мест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803160" y="2728800"/>
            <a:ext cx="14462280" cy="77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498600" y="2752560"/>
            <a:ext cx="13807800" cy="74120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"/>
          <p:cNvSpPr/>
          <p:nvPr/>
        </p:nvSpPr>
        <p:spPr>
          <a:xfrm>
            <a:off x="10190160" y="4873680"/>
            <a:ext cx="43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Console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Console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Console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Console"/>
              </a:rPr>
              <a:t>В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AutoShape 6"/>
          <p:cNvCxnSpPr/>
          <p:nvPr/>
        </p:nvCxnSpPr>
        <p:spPr>
          <a:xfrm flipH="1" rot="16200000">
            <a:off x="8327160" y="6539400"/>
            <a:ext cx="3356640" cy="24480"/>
          </a:xfrm>
          <a:prstGeom prst="bentConnector3">
            <a:avLst>
              <a:gd name="adj1" fmla="val 49973"/>
            </a:avLst>
          </a:prstGeom>
          <a:ln w="38160">
            <a:solidFill>
              <a:srgbClr val="c00000"/>
            </a:solidFill>
            <a:round/>
            <a:tailEnd len="med" type="triangle" w="med"/>
          </a:ln>
        </p:spPr>
      </p:cxnSp>
      <p:sp>
        <p:nvSpPr>
          <p:cNvPr id="394" name="Rectangle 7"/>
          <p:cNvSpPr/>
          <p:nvPr/>
        </p:nvSpPr>
        <p:spPr>
          <a:xfrm>
            <a:off x="10621800" y="9712440"/>
            <a:ext cx="2490840" cy="15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>
            <a:off x="11658600" y="8229600"/>
            <a:ext cx="1454040" cy="151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9"/>
          <p:cNvSpPr/>
          <p:nvPr/>
        </p:nvSpPr>
        <p:spPr>
          <a:xfrm>
            <a:off x="11563200" y="4456080"/>
            <a:ext cx="1549440" cy="2359080"/>
          </a:xfrm>
          <a:custGeom>
            <a:avLst/>
            <a:gdLst>
              <a:gd name="textAreaLeft" fmla="*/ 75600 w 1549440"/>
              <a:gd name="textAreaRight" fmla="*/ 1473840 w 1549440"/>
              <a:gd name="textAreaTop" fmla="*/ 75600 h 2359080"/>
              <a:gd name="textAreaBottom" fmla="*/ 2283480 h 2359080"/>
            </a:gdLst>
            <a:ahLst/>
            <a:rect l="textAreaLeft" t="textAreaTop" r="textAreaRight" b="textAreaBottom"/>
            <a:pathLst>
              <a:path w="21600" h="32884">
                <a:moveTo>
                  <a:pt x="3600" y="0"/>
                </a:moveTo>
                <a:arcTo wR="3600" hR="3600" stAng="16200000" swAng="-5400000"/>
                <a:lnTo>
                  <a:pt x="0" y="29284"/>
                </a:lnTo>
                <a:arcTo wR="3600" hR="3600" stAng="10800000" swAng="-5400000"/>
                <a:lnTo>
                  <a:pt x="18000" y="328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2123720" y="4456080"/>
            <a:ext cx="5004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11"/>
          <p:cNvSpPr/>
          <p:nvPr/>
        </p:nvSpPr>
        <p:spPr>
          <a:xfrm>
            <a:off x="7232760" y="4130640"/>
            <a:ext cx="1690560" cy="2019240"/>
          </a:xfrm>
          <a:custGeom>
            <a:avLst/>
            <a:gdLst>
              <a:gd name="textAreaLeft" fmla="*/ 82440 w 1690560"/>
              <a:gd name="textAreaRight" fmla="*/ 1608120 w 1690560"/>
              <a:gd name="textAreaTop" fmla="*/ 82440 h 2019240"/>
              <a:gd name="textAreaBottom" fmla="*/ 1936800 h 2019240"/>
            </a:gdLst>
            <a:ahLst/>
            <a:rect l="textAreaLeft" t="textAreaTop" r="textAreaRight" b="textAreaBottom"/>
            <a:pathLst>
              <a:path w="21600" h="25799">
                <a:moveTo>
                  <a:pt x="3600" y="0"/>
                </a:moveTo>
                <a:arcTo wR="3600" hR="3600" stAng="16200000" swAng="-5400000"/>
                <a:lnTo>
                  <a:pt x="0" y="22199"/>
                </a:lnTo>
                <a:arcTo wR="3600" hR="3600" stAng="10800000" swAng="-5400000"/>
                <a:lnTo>
                  <a:pt x="18000" y="257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12"/>
          <p:cNvSpPr/>
          <p:nvPr/>
        </p:nvSpPr>
        <p:spPr>
          <a:xfrm>
            <a:off x="2521080" y="4130640"/>
            <a:ext cx="1690560" cy="2019240"/>
          </a:xfrm>
          <a:custGeom>
            <a:avLst/>
            <a:gdLst>
              <a:gd name="textAreaLeft" fmla="*/ 82440 w 1690560"/>
              <a:gd name="textAreaRight" fmla="*/ 1608120 w 1690560"/>
              <a:gd name="textAreaTop" fmla="*/ 82440 h 2019240"/>
              <a:gd name="textAreaBottom" fmla="*/ 1936800 h 2019240"/>
            </a:gdLst>
            <a:ahLst/>
            <a:rect l="textAreaLeft" t="textAreaTop" r="textAreaRight" b="textAreaBottom"/>
            <a:pathLst>
              <a:path w="21600" h="25799">
                <a:moveTo>
                  <a:pt x="3600" y="0"/>
                </a:moveTo>
                <a:arcTo wR="3600" hR="3600" stAng="16200000" swAng="-5400000"/>
                <a:lnTo>
                  <a:pt x="0" y="22199"/>
                </a:lnTo>
                <a:arcTo wR="3600" hR="3600" stAng="10800000" swAng="-5400000"/>
                <a:lnTo>
                  <a:pt x="18000" y="257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3"/>
          <p:cNvSpPr/>
          <p:nvPr/>
        </p:nvSpPr>
        <p:spPr>
          <a:xfrm>
            <a:off x="4911840" y="4130640"/>
            <a:ext cx="1690560" cy="2019240"/>
          </a:xfrm>
          <a:custGeom>
            <a:avLst/>
            <a:gdLst>
              <a:gd name="textAreaLeft" fmla="*/ 82440 w 1690560"/>
              <a:gd name="textAreaRight" fmla="*/ 1608120 w 1690560"/>
              <a:gd name="textAreaTop" fmla="*/ 82440 h 2019240"/>
              <a:gd name="textAreaBottom" fmla="*/ 1936800 h 2019240"/>
            </a:gdLst>
            <a:ahLst/>
            <a:rect l="textAreaLeft" t="textAreaTop" r="textAreaRight" b="textAreaBottom"/>
            <a:pathLst>
              <a:path w="21600" h="25799">
                <a:moveTo>
                  <a:pt x="3600" y="0"/>
                </a:moveTo>
                <a:arcTo wR="3600" hR="3600" stAng="16200000" swAng="-5400000"/>
                <a:lnTo>
                  <a:pt x="0" y="22199"/>
                </a:lnTo>
                <a:arcTo wR="3600" hR="3600" stAng="10800000" swAng="-5400000"/>
                <a:lnTo>
                  <a:pt x="18000" y="257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4"/>
          <p:cNvSpPr/>
          <p:nvPr/>
        </p:nvSpPr>
        <p:spPr>
          <a:xfrm>
            <a:off x="7232760" y="7191360"/>
            <a:ext cx="1690560" cy="1957320"/>
          </a:xfrm>
          <a:custGeom>
            <a:avLst/>
            <a:gdLst>
              <a:gd name="textAreaLeft" fmla="*/ 82440 w 1690560"/>
              <a:gd name="textAreaRight" fmla="*/ 1608120 w 1690560"/>
              <a:gd name="textAreaTop" fmla="*/ 82440 h 1957320"/>
              <a:gd name="textAreaBottom" fmla="*/ 1874880 h 1957320"/>
            </a:gdLst>
            <a:ahLst/>
            <a:rect l="textAreaLeft" t="textAreaTop" r="textAreaRight" b="textAreaBottom"/>
            <a:pathLst>
              <a:path w="21600" h="25008">
                <a:moveTo>
                  <a:pt x="3600" y="0"/>
                </a:moveTo>
                <a:arcTo wR="3600" hR="3600" stAng="16200000" swAng="-5400000"/>
                <a:lnTo>
                  <a:pt x="0" y="21408"/>
                </a:lnTo>
                <a:arcTo wR="3600" hR="3600" stAng="10800000" swAng="-5400000"/>
                <a:lnTo>
                  <a:pt x="18000" y="250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5"/>
          <p:cNvSpPr/>
          <p:nvPr/>
        </p:nvSpPr>
        <p:spPr>
          <a:xfrm>
            <a:off x="4911840" y="7191360"/>
            <a:ext cx="1690560" cy="1957320"/>
          </a:xfrm>
          <a:custGeom>
            <a:avLst/>
            <a:gdLst>
              <a:gd name="textAreaLeft" fmla="*/ 82440 w 1690560"/>
              <a:gd name="textAreaRight" fmla="*/ 1608120 w 1690560"/>
              <a:gd name="textAreaTop" fmla="*/ 82440 h 1957320"/>
              <a:gd name="textAreaBottom" fmla="*/ 1874880 h 1957320"/>
            </a:gdLst>
            <a:ahLst/>
            <a:rect l="textAreaLeft" t="textAreaTop" r="textAreaRight" b="textAreaBottom"/>
            <a:pathLst>
              <a:path w="21600" h="25008">
                <a:moveTo>
                  <a:pt x="3600" y="0"/>
                </a:moveTo>
                <a:arcTo wR="3600" hR="3600" stAng="16200000" swAng="-5400000"/>
                <a:lnTo>
                  <a:pt x="0" y="21408"/>
                </a:lnTo>
                <a:arcTo wR="3600" hR="3600" stAng="10800000" swAng="-5400000"/>
                <a:lnTo>
                  <a:pt x="18000" y="250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6"/>
          <p:cNvSpPr/>
          <p:nvPr/>
        </p:nvSpPr>
        <p:spPr>
          <a:xfrm>
            <a:off x="2521080" y="7191360"/>
            <a:ext cx="1690560" cy="1957320"/>
          </a:xfrm>
          <a:custGeom>
            <a:avLst/>
            <a:gdLst>
              <a:gd name="textAreaLeft" fmla="*/ 82440 w 1690560"/>
              <a:gd name="textAreaRight" fmla="*/ 1608120 w 1690560"/>
              <a:gd name="textAreaTop" fmla="*/ 82440 h 1957320"/>
              <a:gd name="textAreaBottom" fmla="*/ 1874880 h 1957320"/>
            </a:gdLst>
            <a:ahLst/>
            <a:rect l="textAreaLeft" t="textAreaTop" r="textAreaRight" b="textAreaBottom"/>
            <a:pathLst>
              <a:path w="21600" h="25008">
                <a:moveTo>
                  <a:pt x="3600" y="0"/>
                </a:moveTo>
                <a:arcTo wR="3600" hR="3600" stAng="16200000" swAng="-5400000"/>
                <a:lnTo>
                  <a:pt x="0" y="21408"/>
                </a:lnTo>
                <a:arcTo wR="3600" hR="3600" stAng="10800000" swAng="-5400000"/>
                <a:lnTo>
                  <a:pt x="18000" y="250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4059360" y="6224760"/>
            <a:ext cx="33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Console"/>
              </a:rPr>
              <a:t>ЦИФ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5" name="AutoShape 18"/>
          <p:cNvCxnSpPr/>
          <p:nvPr/>
        </p:nvCxnSpPr>
        <p:spPr>
          <a:xfrm rot="10800000">
            <a:off x="3839400" y="6927120"/>
            <a:ext cx="3980520" cy="19800"/>
          </a:xfrm>
          <a:prstGeom prst="bentConnector3">
            <a:avLst>
              <a:gd name="adj1" fmla="val 49990"/>
            </a:avLst>
          </a:prstGeom>
          <a:ln w="38160">
            <a:solidFill>
              <a:srgbClr val="c00000"/>
            </a:solidFill>
            <a:round/>
            <a:tailEnd len="med" type="triangle" w="med"/>
          </a:ln>
        </p:spPr>
      </p:cxnSp>
      <p:sp>
        <p:nvSpPr>
          <p:cNvPr id="406" name="Rectangle 19"/>
          <p:cNvSpPr/>
          <p:nvPr/>
        </p:nvSpPr>
        <p:spPr>
          <a:xfrm rot="5400000">
            <a:off x="2916720" y="4971600"/>
            <a:ext cx="933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3: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 rot="5400000">
            <a:off x="2692800" y="8049600"/>
            <a:ext cx="1311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3:Б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 rot="5400000">
            <a:off x="5100120" y="5146200"/>
            <a:ext cx="1282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2: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2"/>
          <p:cNvSpPr/>
          <p:nvPr/>
        </p:nvSpPr>
        <p:spPr>
          <a:xfrm rot="5400000">
            <a:off x="5309640" y="7897320"/>
            <a:ext cx="933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2:Б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3"/>
          <p:cNvSpPr/>
          <p:nvPr/>
        </p:nvSpPr>
        <p:spPr>
          <a:xfrm rot="5400000">
            <a:off x="7658640" y="4971600"/>
            <a:ext cx="933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1: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4"/>
          <p:cNvSpPr/>
          <p:nvPr/>
        </p:nvSpPr>
        <p:spPr>
          <a:xfrm rot="5400000">
            <a:off x="7658640" y="7906680"/>
            <a:ext cx="933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1:Б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25" descr=""/>
          <p:cNvPicPr/>
          <p:nvPr/>
        </p:nvPicPr>
        <p:blipFill>
          <a:blip r:embed="rId2"/>
          <a:stretch/>
        </p:blipFill>
        <p:spPr>
          <a:xfrm>
            <a:off x="12841200" y="3714840"/>
            <a:ext cx="735120" cy="73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803160" y="2728800"/>
            <a:ext cx="14462280" cy="77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587520" y="2556000"/>
            <a:ext cx="14892120" cy="8042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2"/>
          <a:stretch/>
        </p:blipFill>
        <p:spPr>
          <a:xfrm>
            <a:off x="1517760" y="3881520"/>
            <a:ext cx="927000" cy="874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"/>
          <p:cNvPicPr/>
          <p:nvPr/>
        </p:nvPicPr>
        <p:blipFill>
          <a:blip r:embed="rId3"/>
          <a:stretch/>
        </p:blipFill>
        <p:spPr>
          <a:xfrm>
            <a:off x="2803680" y="4902120"/>
            <a:ext cx="1382400" cy="1382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"/>
          <p:cNvPicPr/>
          <p:nvPr/>
        </p:nvPicPr>
        <p:blipFill>
          <a:blip r:embed="rId4"/>
          <a:stretch/>
        </p:blipFill>
        <p:spPr>
          <a:xfrm>
            <a:off x="4599000" y="50785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5"/>
          <a:stretch/>
        </p:blipFill>
        <p:spPr>
          <a:xfrm>
            <a:off x="11538000" y="559260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"/>
          <p:cNvPicPr/>
          <p:nvPr/>
        </p:nvPicPr>
        <p:blipFill>
          <a:blip r:embed="rId6"/>
          <a:stretch/>
        </p:blipFill>
        <p:spPr>
          <a:xfrm>
            <a:off x="9129600" y="4703760"/>
            <a:ext cx="2247840" cy="2247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"/>
          <p:cNvPicPr/>
          <p:nvPr/>
        </p:nvPicPr>
        <p:blipFill>
          <a:blip r:embed="rId7"/>
          <a:stretch/>
        </p:blipFill>
        <p:spPr>
          <a:xfrm>
            <a:off x="13592160" y="3881520"/>
            <a:ext cx="927000" cy="874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" descr=""/>
          <p:cNvPicPr/>
          <p:nvPr/>
        </p:nvPicPr>
        <p:blipFill>
          <a:blip r:embed="rId8"/>
          <a:stretch/>
        </p:blipFill>
        <p:spPr>
          <a:xfrm>
            <a:off x="9434520" y="6951600"/>
            <a:ext cx="3884760" cy="1994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"/>
          <p:cNvPicPr/>
          <p:nvPr/>
        </p:nvPicPr>
        <p:blipFill>
          <a:blip r:embed="rId9"/>
          <a:stretch/>
        </p:blipFill>
        <p:spPr>
          <a:xfrm>
            <a:off x="6568920" y="6454800"/>
            <a:ext cx="2189160" cy="2708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" descr=""/>
          <p:cNvPicPr/>
          <p:nvPr/>
        </p:nvPicPr>
        <p:blipFill>
          <a:blip r:embed="rId10"/>
          <a:stretch/>
        </p:blipFill>
        <p:spPr>
          <a:xfrm>
            <a:off x="4122720" y="6416640"/>
            <a:ext cx="2189160" cy="2708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3" descr=""/>
          <p:cNvPicPr/>
          <p:nvPr/>
        </p:nvPicPr>
        <p:blipFill>
          <a:blip r:embed="rId11"/>
          <a:stretch/>
        </p:blipFill>
        <p:spPr>
          <a:xfrm>
            <a:off x="1635120" y="6416640"/>
            <a:ext cx="2189160" cy="2708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" descr=""/>
          <p:cNvPicPr/>
          <p:nvPr/>
        </p:nvPicPr>
        <p:blipFill>
          <a:blip r:embed="rId12"/>
          <a:stretch/>
        </p:blipFill>
        <p:spPr>
          <a:xfrm>
            <a:off x="6624720" y="5110200"/>
            <a:ext cx="725400" cy="7239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17760" y="630000"/>
            <a:ext cx="144619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Аудитория, предусмотренная для печати полного комплекта ЭМ и сканирования ЭМ и форм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12" descr=""/>
          <p:cNvPicPr/>
          <p:nvPr/>
        </p:nvPicPr>
        <p:blipFill>
          <a:blip r:embed="rId13"/>
          <a:stretch/>
        </p:blipFill>
        <p:spPr>
          <a:xfrm>
            <a:off x="11417400" y="3514680"/>
            <a:ext cx="1665360" cy="16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рагина Лариса Васильевна</cp:lastModifiedBy>
  <dcterms:modified xsi:type="dcterms:W3CDTF">2024-12-28T01:23:32Z</dcterms:modified>
  <cp:revision>97</cp:revision>
  <dc:subject/>
  <dc:title>Презентация PowerPoint</dc:title>
</cp:coreProperties>
</file>